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5323-EFDB-47A8-AA9C-98FC0E44F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BB13-5018-4C05-A3CD-580977DB2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BE11-23EE-4939-BE3D-796A017EE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5322-4BAC-4251-AF34-627A7FEF8C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AD72-21A3-4F80-B861-3821AEC856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BE6A-837D-46C9-8D21-6C360B5CD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C23A-1C75-47C7-85B9-DBB074968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F043-4CF9-4878-A19D-E44F4023D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2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6554-EE78-49AD-8688-5CABD32E7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4983-9B01-478D-8B3D-90F6F4312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304FD-C795-4EAA-AC53-92EC3A7C9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3976C-EADF-4B40-A50A-D53353175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1560" y="790560"/>
            <a:ext cx="8493120" cy="0"/>
          </a:xfrm>
          <a:prstGeom prst="line">
            <a:avLst/>
          </a:prstGeom>
          <a:ln w="25560">
            <a:solidFill>
              <a:srgbClr val="e86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24000" y="6381720"/>
            <a:ext cx="8770680" cy="19080"/>
          </a:xfrm>
          <a:prstGeom prst="line">
            <a:avLst/>
          </a:prstGeom>
          <a:ln w="19080">
            <a:solidFill>
              <a:srgbClr val="e86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F493-A419-4145-A874-5A0070B8DE47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066680"/>
            <a:ext cx="81360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Arial"/>
              </a:rPr>
              <a:t>CONVEGNO OIC</a:t>
            </a:r>
            <a:br>
              <a:rPr sz="3000"/>
            </a:br>
            <a:br>
              <a:rPr sz="2000"/>
            </a:b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LE MODIFICHE DELLA DISCIPLINA CODICISTICA DEL BILANCIO DI ESERCIZIO: IL PROGETTO OIC DI ATTUAZIONE DELLE DIRETTIVE NN. 51/2003 E 65/2001 </a:t>
            </a:r>
            <a:br>
              <a:rPr sz="2000"/>
            </a:br>
            <a:br>
              <a:rPr sz="20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******</a:t>
            </a:r>
            <a:br>
              <a:rPr sz="3200"/>
            </a:b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I principali interventi sugli schemi di bilancio: stato patrimoniale, conto economico, rendiconto finanziario e prospetto di variazione del patrimonio netto</a:t>
            </a:r>
            <a:br>
              <a:rPr sz="2000"/>
            </a:br>
            <a:br>
              <a:rPr sz="20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******</a:t>
            </a:r>
            <a:br>
              <a:rPr sz="1500"/>
            </a:br>
            <a:br>
              <a:rPr sz="1500"/>
            </a:b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Fabrizio Dabbene</a:t>
            </a:r>
            <a:br>
              <a:rPr sz="1800"/>
            </a:b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Roma, 21 giugno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1D92-E259-4529-951B-E3194186D1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3880" y="152280"/>
            <a:ext cx="705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4588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Il contenuto dello stato patrimoniale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0560" y="787320"/>
            <a:ext cx="792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Lo stato patrimoniale deve essere redatto in conformità al seguente 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5840" y="992160"/>
            <a:ext cx="8665920" cy="537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8B8F-B00A-43F7-81C8-CDDD2B04AD2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3880" y="152280"/>
            <a:ext cx="705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9120" y="2602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Il contenuto dello stato patrimoniale - Segue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7520" y="896760"/>
            <a:ext cx="8437320" cy="58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Da un’articolazione su quattro livelli ad un’articolazione su due livel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Suddivisione tra poste non correnti e poste corr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* * * *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Immobilizzazioni immateriali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ontenuto più circoscrit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Immobilizzazioni materiali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suddivisione tra immobili strumentali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investimenti immobili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Beni utilizzati in locazione finanziaria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iscrizione dei beni acquisiti in le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finanzi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Partecipazioni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inclusi solo investimenti in controllat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ollegate, controllate congiuntam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Attività e passività finanziarie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distinzione per natura e non in base a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destinazione fun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Attività possedute per la vendita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nuova vo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Passività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quasi invariate le voci; solo una min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articol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Non ci sono più le azioni proprie all’attivo ed i ratei attivi e passi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1360" y="191448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81360" y="231444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81360" y="301932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81360" y="369576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81360" y="438156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81360" y="506736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81360" y="550548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7A38-52E8-4E04-A1CB-E5102C2D459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3880" y="152280"/>
            <a:ext cx="705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4588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Il contenuto del conto economico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4320" y="787320"/>
            <a:ext cx="77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Il conto economic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deve essere redatto in conformità al seguente sche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71600" y="1001880"/>
            <a:ext cx="6446880" cy="536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E2F8-A5E9-44AE-9A63-2952423F4D3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3880" y="152280"/>
            <a:ext cx="705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9120" y="2602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Il contenuto del conto economico - Segue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120" y="1130400"/>
            <a:ext cx="8628120" cy="45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Nessuna rivoluzione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mantenimento della forma scal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mantenimento della suddivisione dei costi per na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minore articol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Un solo margine intermedio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risultato ope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omponenti finanziarie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suddivisione tra componenti realizzate e compon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valu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Proventi ed oneri straordinari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ontenuto limitato a proventi ed oneri estran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all’attività dell’impresa, rilevanti,casuali ed infrequ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non includono più effetti derivanti da cambiamenti 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principi contabili o da correzione di err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62200" y="116208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62200" y="146700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2200" y="176220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62200" y="236232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62200" y="278136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62200" y="348624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62200" y="4172040"/>
            <a:ext cx="438480" cy="193680"/>
          </a:xfrm>
          <a:prstGeom prst="rightArrow">
            <a:avLst>
              <a:gd name="adj1" fmla="val 50000"/>
              <a:gd name="adj2" fmla="val 565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7179-04CA-461B-BEFE-BF42F0C3177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3880" y="152280"/>
            <a:ext cx="705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1960" y="1411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Il contenuto del prospetto delle variazioni delle voci di patrimonio netto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9880" y="797040"/>
            <a:ext cx="8844120" cy="63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Il nuovo art. 2425-ter disciplina il contenuto del prospet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Il patrimonio netto si movimenta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operazioni sul capita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destinazione utile e distribuzione/utilizz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ri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omponenti economiche direttam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imputate a patrimonio net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omponenti economiche (da espor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al netto dell’effetto fiscale)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variazioni di fair value di immobilizz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materiali e immateriali, strumenti finanzi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disponibili per la vendita, contratti derivati d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opertura del rischio di variazione di flus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finanzi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variazioni di valore di partecipazioni valut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on il metodo del patrimonio net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effetti pregressi derivanti da cambiamenti di 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principi contabili ed effetti derivanti 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orrezioni di err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Le azioni proprie costituiscono una componente negativa di patrimonio net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onfronto con esercizio preced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38640" y="120024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38640" y="153360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38640" y="208584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38640" y="297180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38640" y="425772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38640" y="482904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91240" y="2076480"/>
            <a:ext cx="3581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0DA5-0D6B-4F8A-ACAC-4FA80D2FD77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3880" y="152280"/>
            <a:ext cx="705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65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Il contenuto del rendiconto finanziario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4800" y="1054080"/>
            <a:ext cx="8406000" cy="50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Il nuovo art. 2425-quater fornisce indicazioni generali sul contenuto del rendiconto finanziar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disponibilità liquide ad inizio e fine eserciz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lnSpc>
                <a:spcPct val="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flussi finanziari derivanti da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attività operativ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attività di investimen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attività di finanziamen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operazioni con i soc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Rinvio ai principi contabili ed alla dottri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Possibilità di scelta tra: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metodo diretto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dettaglio incassi e pagamenti derivant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da attività operativ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lnSpc>
                <a:spcPct val="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metodo indiretto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utile/perdita rettificati dagli effetti d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natura non monetar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Confronto con esercizio preceden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206676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239076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271476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300996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421956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4829040"/>
            <a:ext cx="438120" cy="193680"/>
          </a:xfrm>
          <a:prstGeom prst="rightArrow">
            <a:avLst>
              <a:gd name="adj1" fmla="val 50000"/>
              <a:gd name="adj2" fmla="val 565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A728-E43F-41F3-9816-2B555A937BA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152280"/>
            <a:ext cx="705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52600" y="2365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333399"/>
                </a:solidFill>
                <a:latin typeface="Arial"/>
              </a:rPr>
              <a:t>I prospetti contabili nei bilanci 2006 (società non finanziarie MIB 30)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76440" y="996840"/>
            <a:ext cx="8277120" cy="537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21A2-2CDB-475A-B385-F16D87A67022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4:14:15Z</dcterms:created>
  <dc:creator>Monica Mollica</dc:creator>
  <dc:description/>
  <dc:language>en-US</dc:language>
  <cp:lastModifiedBy>claudia</cp:lastModifiedBy>
  <cp:lastPrinted>2003-02-13T11:50:58Z</cp:lastPrinted>
  <dcterms:modified xsi:type="dcterms:W3CDTF">2007-06-19T14:31:40Z</dcterms:modified>
  <cp:revision>3716</cp:revision>
  <dc:subject/>
  <dc:title>Diapositiva 0</dc:title>
</cp:coreProperties>
</file>