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0477-7697-4CDF-975C-C35139A81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896D-9A7B-444D-A17E-C4648A9C1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2685-B491-4D88-8504-D58DE24F4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6DF2-C8DC-4171-BAD4-2424F27DC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2F2C0-95AE-411D-A5E1-9F2021BFC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20F50-2B7F-4B47-96D0-678C60FAB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2519E-8663-4B82-8B83-EB9ABF9C7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523E7-6D07-4F26-8F8E-795F7D0DD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4A384-671D-4D1D-B1C7-544F39B13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0F9E9-0B94-4611-9F56-CD6AA7C8C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2D306-71C1-4488-95FD-48AB2039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2D51-5BD1-4F42-9128-9283713B0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4E907-34F9-4ED6-8096-14DA7708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2E5F4-7C86-43CC-8F7F-CA38E472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F0A3D-8A9E-4D91-91E7-5F8FF565E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6B574-74C3-4205-96FD-0C932EA5E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60A34-563E-49A2-B979-4D07D5A34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5FC1-2CF8-438E-AB95-D9F4E1D30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74EB-7092-440D-AB35-A3C522D97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ED4D-D065-4C29-BDB8-74B0E24EB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A354-D07A-4808-B871-40472CC2B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3617-270C-42FF-A1A6-EF0EC891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89A8-D880-4CEE-B19F-F04BA5BC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2D44-CE6E-487D-AEEC-AA27A975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06838-A278-405C-BF60-704D2833DABE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C981E-1D1A-43BD-876F-2806D7B4BEFD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5409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r>
              <a:rPr b="0" lang="it-IT" sz="1400" spc="-1" strike="noStrike">
                <a:solidFill>
                  <a:srgbClr val="ffff66"/>
                </a:solidFill>
                <a:latin typeface="Bookman Old Style"/>
              </a:rPr>
              <a:t> </a:t>
            </a:r>
            <a:r>
              <a:rPr b="0" lang="it-IT" sz="1400" spc="-1" strike="noStrike">
                <a:solidFill>
                  <a:srgbClr val="ffff66"/>
                </a:solidFill>
                <a:latin typeface="Bookman Old Style"/>
              </a:rPr>
              <a:t>Dott. Angelo Casò</a:t>
            </a:r>
            <a:br>
              <a:rPr sz="1400"/>
            </a:br>
            <a:br>
              <a:rPr sz="1400"/>
            </a:br>
            <a:r>
              <a:rPr b="0" lang="it-IT" sz="1200" spc="-1" strike="noStrike">
                <a:solidFill>
                  <a:srgbClr val="000000"/>
                </a:solidFill>
                <a:latin typeface="Bookman Old Style"/>
              </a:rPr>
              <a:t>                                                                                                                                </a:t>
            </a:r>
            <a:fld id="{3E42D49B-58C6-4C3B-8073-E92F69D7B4D5}" type="slidenum">
              <a:rPr b="0" lang="it-IT" sz="1200" spc="-1" strike="noStrike">
                <a:solidFill>
                  <a:srgbClr val="ffff66"/>
                </a:solidFill>
                <a:latin typeface="Bookman Old Style"/>
              </a:rPr>
              <a:t>&lt;number&gt;</a:t>
            </a:fld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120" y="151920"/>
            <a:ext cx="8534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CONVEGNO OIC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21 GIUGNO 200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2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“</a:t>
            </a:r>
            <a:r>
              <a:rPr b="1" lang="it-IT" sz="16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Le modifiche della disciplina codicistica del bilancio di esercizio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il progetto OIC di attuazione delle Direttive n. 51/2003 e 65/2001</a:t>
            </a:r>
            <a:r>
              <a:rPr b="1" lang="it-IT" sz="14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LE MODIFICAZIONI CODICISTICHE PROPOS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E IL PROGETTO SME ELABORATO DALLO IAS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2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409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r>
              <a:rPr b="0" lang="it-IT" sz="1400" spc="-1" strike="noStrike">
                <a:solidFill>
                  <a:srgbClr val="ffff66"/>
                </a:solidFill>
                <a:latin typeface="Bookman Old Style"/>
              </a:rPr>
              <a:t> </a:t>
            </a:r>
            <a:br>
              <a:rPr sz="1400"/>
            </a:br>
            <a:r>
              <a:rPr b="0" lang="it-IT" sz="1400" spc="-1" strike="noStrike">
                <a:solidFill>
                  <a:srgbClr val="ffff66"/>
                </a:solidFill>
                <a:latin typeface="Bookman Old Style"/>
              </a:rPr>
              <a:t>Dott. Angelo Casò</a:t>
            </a:r>
            <a:br>
              <a:rPr sz="1400"/>
            </a:br>
            <a:br>
              <a:rPr sz="1400"/>
            </a:br>
            <a:r>
              <a:rPr b="0" lang="it-IT" sz="1200" spc="-1" strike="noStrike">
                <a:solidFill>
                  <a:srgbClr val="000000"/>
                </a:solidFill>
                <a:latin typeface="Bookman Old Style"/>
              </a:rPr>
              <a:t>                                                                                                                                              </a:t>
            </a:r>
            <a:fld id="{927F8534-21D7-4789-A933-2CE6592C78F5}" type="slidenum">
              <a:rPr b="0" lang="it-IT" sz="1200" spc="-1" strike="noStrike">
                <a:solidFill>
                  <a:srgbClr val="ffff66"/>
                </a:solidFill>
                <a:latin typeface="Bookman Old Style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28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85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Bookman Old Style"/>
              </a:rPr>
              <a:t>Ind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-6094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SzPct val="75000"/>
              <a:buFont typeface="Bookman Old Styl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IL PROGETTO IASB/SM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</a:t>
            </a:r>
            <a:r>
              <a:rPr b="0" lang="it-IT" sz="16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a) Origini e motivazion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</a:t>
            </a:r>
            <a:r>
              <a:rPr b="0" lang="it-IT" sz="16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b) Le scelte di fon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ts val="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-6094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SzPct val="75000"/>
              <a:buFont typeface="Bookman Old Style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IL QUADRO NORMATIVO ITALIA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Le Direttive UE e la loro attuazione in Ital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-6094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SzPct val="75000"/>
              <a:buFont typeface="Bookman Old Style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IL RAFFRONTO TRA IL PROGETTO IASB/SMEs 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</a:t>
            </a:r>
            <a:r>
              <a:rPr b="1" lang="it-IT" sz="16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IL QUADRO NORMATIVO ITALIA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lang="it-IT" sz="16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Interferenze – Coesistenz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-609480">
              <a:lnSpc>
                <a:spcPct val="150000"/>
              </a:lnSpc>
              <a:spcBef>
                <a:spcPts val="2001"/>
              </a:spcBef>
              <a:buClr>
                <a:srgbClr val="ffffff"/>
              </a:buClr>
              <a:buSzPct val="75000"/>
              <a:buFont typeface="Bookman Old Style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GLI SCENARI POSSIBIL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5562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r>
              <a:rPr b="0" lang="it-IT" sz="1400" spc="-1" strike="noStrike">
                <a:solidFill>
                  <a:srgbClr val="ffff66"/>
                </a:solidFill>
                <a:latin typeface="Bookman Old Style"/>
              </a:rPr>
              <a:t> </a:t>
            </a:r>
            <a:r>
              <a:rPr b="0" lang="it-IT" sz="1400" spc="-1" strike="noStrike">
                <a:solidFill>
                  <a:srgbClr val="ffff66"/>
                </a:solidFill>
                <a:latin typeface="Bookman Old Style"/>
              </a:rPr>
              <a:t>Dott. Angelo Casò</a:t>
            </a:r>
            <a:br>
              <a:rPr sz="1400"/>
            </a:br>
            <a:br>
              <a:rPr sz="1400"/>
            </a:br>
            <a:r>
              <a:rPr b="0" lang="it-IT" sz="1200" spc="-1" strike="noStrike">
                <a:solidFill>
                  <a:srgbClr val="000000"/>
                </a:solidFill>
                <a:latin typeface="Bookman Old Style"/>
              </a:rPr>
              <a:t>                                                                                                                                                       </a:t>
            </a:r>
            <a:r>
              <a:rPr b="0" lang="it-IT" sz="1200" spc="-1" strike="noStrike">
                <a:solidFill>
                  <a:srgbClr val="ffff66"/>
                </a:solidFill>
                <a:latin typeface="Bookman Old Style"/>
              </a:rPr>
              <a:t> </a:t>
            </a:r>
            <a:fld id="{A18F44FA-5B21-4869-9830-C4D20F680A83}" type="slidenum">
              <a:rPr b="0" lang="it-IT" sz="1200" spc="-1" strike="noStrike">
                <a:solidFill>
                  <a:srgbClr val="ffff66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520" y="53352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723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723960" indent="-542880">
              <a:lnSpc>
                <a:spcPct val="90000"/>
              </a:lnSpc>
              <a:spcBef>
                <a:spcPts val="3501"/>
              </a:spcBef>
              <a:buClr>
                <a:srgbClr val="ffffff"/>
              </a:buClr>
              <a:buSzPct val="75000"/>
              <a:buFont typeface="Bookman Old Style"/>
              <a:buAutoNum type="arabicPeriod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IL PROGETTO IASB/S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23960"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</a:t>
            </a:r>
            <a:r>
              <a:rPr b="0" lang="it-IT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a)  </a:t>
            </a:r>
            <a:r>
              <a:rPr b="0" lang="it-IT" sz="24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Origini e Motivazioni</a:t>
            </a:r>
            <a:r>
              <a:rPr b="0" lang="it-IT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2396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</a:t>
            </a:r>
            <a:r>
              <a:rPr b="0" lang="it-IT" sz="1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- L’inventario IFAC del 2000: il 99% delle imprese so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72396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   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S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72396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   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(sia nei paesi sviluppati che in quelli in via di svilupp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72396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</a:t>
            </a:r>
            <a:r>
              <a:rPr b="0" lang="it-IT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-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Trasferire IAS/IFRS per “fotocopia” alle SMEs è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72396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     </a:t>
            </a:r>
            <a:r>
              <a:rPr b="0" lang="it-IT" sz="20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impensabile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72396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72396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723960"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533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it-IT" sz="1400" spc="-1" strike="noStrike">
                <a:solidFill>
                  <a:srgbClr val="ffff66"/>
                </a:solidFill>
                <a:latin typeface="Bookman Old Style"/>
              </a:rPr>
              <a:t> </a:t>
            </a:r>
            <a:r>
              <a:rPr b="0" lang="it-IT" sz="1400" spc="-1" strike="noStrike">
                <a:solidFill>
                  <a:srgbClr val="ffff66"/>
                </a:solidFill>
                <a:latin typeface="Bookman Old Style"/>
              </a:rPr>
              <a:t>Dott. Angelo Casò</a:t>
            </a:r>
            <a:br>
              <a:rPr sz="1400"/>
            </a:br>
            <a:br>
              <a:rPr sz="1400"/>
            </a:br>
            <a:br>
              <a:rPr sz="1200"/>
            </a:br>
            <a:r>
              <a:rPr b="0" lang="it-IT" sz="1200" spc="-1" strike="noStrike">
                <a:solidFill>
                  <a:srgbClr val="000000"/>
                </a:solidFill>
                <a:latin typeface="Bookman Old Style"/>
              </a:rPr>
              <a:t>                                                                                                                                                        </a:t>
            </a:r>
            <a:fld id="{9E1D01A7-1275-4878-A8C8-A930C1A20711}" type="slidenum">
              <a:rPr b="0" lang="it-IT" sz="1200" spc="-1" strike="noStrike">
                <a:solidFill>
                  <a:srgbClr val="ffff66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38088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68680" indent="-506520">
              <a:lnSpc>
                <a:spcPct val="90000"/>
              </a:lnSpc>
              <a:spcBef>
                <a:spcPts val="3501"/>
              </a:spcBef>
              <a:buClr>
                <a:srgbClr val="ffffff"/>
              </a:buClr>
              <a:buSzPct val="75000"/>
              <a:buFont typeface="Bookman Old Styl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IL PROGETTO IASB/S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68680"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</a:t>
            </a:r>
            <a:r>
              <a:rPr b="0" lang="it-IT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b)   </a:t>
            </a:r>
            <a:r>
              <a:rPr b="0" lang="it-IT" sz="24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Le Scelte di fon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6868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- Sistema contabile derivato o autonom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686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 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Framework – Pervasive princip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686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 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Cost/Benefi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686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 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Pagine: 200 contro 15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6868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- Definizione di S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686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 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Dimensione o “qualità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686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 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P.I.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686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 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N.P.A.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686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 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Nessuna definizi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686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 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Escluse le micro-entities (50 dipendenti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68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68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0" lang="it-IT" sz="1400" spc="-1" strike="noStrike">
                <a:solidFill>
                  <a:srgbClr val="ffff66"/>
                </a:solidFill>
                <a:latin typeface="Bookman Old Style"/>
              </a:rPr>
              <a:t>Dott. Angelo Casò</a:t>
            </a:r>
            <a:br>
              <a:rPr sz="1400"/>
            </a:br>
            <a:br>
              <a:rPr sz="1400"/>
            </a:br>
            <a:br>
              <a:rPr sz="1200"/>
            </a:br>
            <a:r>
              <a:rPr b="0" lang="it-IT" sz="1200" spc="-1" strike="noStrike">
                <a:solidFill>
                  <a:srgbClr val="000000"/>
                </a:solidFill>
                <a:latin typeface="Bookman Old Style"/>
              </a:rPr>
              <a:t>                                                                                                                                                        </a:t>
            </a:r>
            <a:fld id="{AE4FB222-82AA-48CF-A380-D1BA8095B54B}" type="slidenum">
              <a:rPr b="0" lang="it-IT" sz="1200" spc="-1" strike="noStrike">
                <a:solidFill>
                  <a:srgbClr val="ffff66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90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90720" indent="-609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Bookman Old Style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1" lang="it-IT" sz="28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IL QUADRO NORMATIVO ITALIA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99072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</a:t>
            </a:r>
            <a:r>
              <a:rPr b="0" lang="it-IT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      </a:t>
            </a:r>
            <a:r>
              <a:rPr b="0" lang="it-IT" sz="24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Le Direttive UE e la loro attuazione in Itali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990720"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- Le Direttive UE 2001/65 e  2003/51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990720"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- Le ipotesi di attuazione predisposte dall’O.I.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9907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(rinvi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990720" indent="0">
              <a:lnSpc>
                <a:spcPct val="70000"/>
              </a:lnSpc>
              <a:spcBef>
                <a:spcPts val="29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it-IT" sz="1400" spc="-1" strike="noStrike">
                <a:solidFill>
                  <a:srgbClr val="ffff66"/>
                </a:solidFill>
                <a:latin typeface="Bookman Old Style"/>
              </a:rPr>
              <a:t> </a:t>
            </a:r>
            <a:r>
              <a:rPr b="0" lang="it-IT" sz="1400" spc="-1" strike="noStrike">
                <a:solidFill>
                  <a:srgbClr val="ffff66"/>
                </a:solidFill>
                <a:latin typeface="Bookman Old Style"/>
              </a:rPr>
              <a:t>Dott. Angelo Casò</a:t>
            </a:r>
            <a:br>
              <a:rPr sz="1400"/>
            </a:br>
            <a:br>
              <a:rPr sz="1400"/>
            </a:br>
            <a:br>
              <a:rPr sz="1200"/>
            </a:br>
            <a:r>
              <a:rPr b="0" lang="it-IT" sz="1200" spc="-1" strike="noStrike">
                <a:solidFill>
                  <a:srgbClr val="000000"/>
                </a:solidFill>
                <a:latin typeface="Bookman Old Style"/>
              </a:rPr>
              <a:t>                                                                                                                                                     </a:t>
            </a:r>
            <a:fld id="{DDF72C21-E780-4529-820A-E540435FDD99}" type="slidenum">
              <a:rPr b="0" lang="it-IT" sz="1200" spc="-1" strike="noStrike">
                <a:solidFill>
                  <a:srgbClr val="ffff66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609120"/>
            <a:ext cx="8610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6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Bookman Old Style"/>
              <a:buAutoNum type="arabicPeriod" startAt="3"/>
              <a:tabLst>
                <a:tab algn="l" pos="79056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1" lang="it-IT" sz="28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IL RAFFRONTO TRA IL PROGETTO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76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9056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</a:t>
            </a:r>
            <a:r>
              <a:rPr b="1" lang="it-IT" sz="28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IASB/SMEs E IL QUADRO NORMATI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76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9056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</a:t>
            </a:r>
            <a:r>
              <a:rPr b="1" lang="it-IT" sz="28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ITALIA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76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9056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6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90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6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90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6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9056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-Interferenz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6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9056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(Destinatari – Mercat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6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90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6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90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6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9056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- Coesistenz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6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9056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(Duplicazioni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6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90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r>
              <a:rPr b="0" lang="it-IT" sz="1400" spc="-1" strike="noStrike">
                <a:solidFill>
                  <a:srgbClr val="ffff66"/>
                </a:solidFill>
                <a:latin typeface="Bookman Old Style"/>
              </a:rPr>
              <a:t> </a:t>
            </a:r>
            <a:r>
              <a:rPr b="0" lang="it-IT" sz="1400" spc="-1" strike="noStrike">
                <a:solidFill>
                  <a:srgbClr val="ffff66"/>
                </a:solidFill>
                <a:latin typeface="Bookman Old Style"/>
              </a:rPr>
              <a:t>Dott. Angelo Casò</a:t>
            </a:r>
            <a:br>
              <a:rPr sz="1400"/>
            </a:br>
            <a:r>
              <a:rPr b="0" lang="it-IT" sz="1200" spc="-1" strike="noStrike">
                <a:solidFill>
                  <a:srgbClr val="000000"/>
                </a:solidFill>
                <a:latin typeface="Bookman Old Style"/>
              </a:rPr>
              <a:t>                                                                                                                                                 </a:t>
            </a:r>
            <a:fld id="{18B01B3F-CA99-408A-A418-D871892F3E68}" type="slidenum">
              <a:rPr b="0" lang="it-IT" sz="1200" spc="-1" strike="noStrike">
                <a:solidFill>
                  <a:srgbClr val="ffff66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520" y="22824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93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930960" indent="-573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Bookman Old Style"/>
              <a:buAutoNum type="arabicPeriod" startAt="4"/>
              <a:tabLst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GLI SCENARI POSSIBIL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930960"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Normativa e utilizzo volontario del sistema IASB/S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930960"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Utilizzo alternativ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930960"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Utilizzo obbligatorio del sistema IASB/S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930960"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Le “Micro – Entities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9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(Progetti in corso – Ruolo OI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930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 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9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9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8:14:14Z</dcterms:created>
  <dc:creator>ERSE</dc:creator>
  <dc:description/>
  <dc:language>en-US</dc:language>
  <cp:lastModifiedBy>ERSE</cp:lastModifiedBy>
  <dcterms:modified xsi:type="dcterms:W3CDTF">2007-06-18T15:21:37Z</dcterms:modified>
  <cp:revision>76</cp:revision>
  <dc:subject/>
  <dc:title>Presentazione di PowerPoint</dc:title>
</cp:coreProperties>
</file>