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720263" cy="71961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95A2-15C6-466E-89BC-2F9D30C9E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2904-6887-43CE-B4BC-3F0048C47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560A-5E99-4AD1-A479-679E544CF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222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840" y="207972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828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222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840" y="4334400"/>
            <a:ext cx="266040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B683-19E9-45A1-8214-6E0AB3FA4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47F0-9220-4097-A27A-E1BE78F99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FC7D-69CA-4D47-B460-EC24E7800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87AE-50AF-46C4-9FA0-29C409DD0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DB7E-0F0A-4E68-89A0-989938D47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8280" y="639720"/>
            <a:ext cx="826308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4AAF-2A2B-4CA3-BF08-D0530CC28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41FB-0CF6-4657-B6CE-0E42356C3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2600" y="433440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C410-1609-40FB-A394-EB1959F35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2600" y="2079720"/>
            <a:ext cx="403236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8280" y="4334400"/>
            <a:ext cx="8263080" cy="2058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96DB-6DB1-4943-AD0F-22D97DFFF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8280" y="639720"/>
            <a:ext cx="8263080" cy="1200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2079720"/>
            <a:ext cx="826308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8000"/>
          </a:bodyPr>
          <a:p>
            <a:pPr marL="354240" indent="-35424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3680" indent="-237960">
              <a:spcBef>
                <a:spcPts val="850"/>
              </a:spcBef>
              <a:buClr>
                <a:srgbClr val="000000"/>
              </a:buClr>
              <a:buFont typeface="Times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8160" indent="-236520">
              <a:spcBef>
                <a:spcPts val="850"/>
              </a:spcBef>
              <a:buClr>
                <a:srgbClr val="000000"/>
              </a:buClr>
              <a:buFont typeface="Times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31200" indent="-236160">
              <a:spcBef>
                <a:spcPts val="850"/>
              </a:spcBef>
              <a:buClr>
                <a:srgbClr val="000000"/>
              </a:buClr>
              <a:buFont typeface="Times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986200" y="6454800"/>
            <a:ext cx="20253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it-IT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ADA1ED-2841-4F14-AEBE-CCD322F45180}" type="slidenum">
              <a:rPr b="0" lang="it-IT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304920" y="6777000"/>
          <a:ext cx="152388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6777000"/>
                    <a:ext cx="15238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905120" y="6781680"/>
            <a:ext cx="193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5 UBM-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00" y="3205080"/>
            <a:ext cx="92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268800"/>
            <a:ext cx="44193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IFRS for S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  <a:ea typeface="Arial"/>
              </a:rPr>
              <a:t>Strument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64008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4648320"/>
            <a:ext cx="4237200" cy="11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oberto Monac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 Ottobre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141960"/>
            <a:ext cx="54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Il presente documento integra un’illustrazione orale degli argomenti in esso contenuti; non può essere pertanto considerato esaustivo senza le informazioni e i commenti che lo accompagna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E823-E2C6-4A1F-942F-2947C8018C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733920" y="1600200"/>
            <a:ext cx="243036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alore di carico del credito o del portafoglio di cred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600200"/>
            <a:ext cx="242892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600200"/>
            <a:ext cx="226872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dita durevole di val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785960"/>
            <a:ext cx="566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1785960"/>
            <a:ext cx="566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3017880"/>
            <a:ext cx="175248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017880"/>
            <a:ext cx="2590920" cy="6397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vità valutate al costo ammortizza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3048120"/>
            <a:ext cx="320040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ore attuale dei futuri flussi di cassa al TIR origi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1240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008600"/>
            <a:ext cx="1752480" cy="639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unto valore di recup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008600"/>
            <a:ext cx="2590920" cy="6397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vità valutat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038480"/>
            <a:ext cx="32004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glior stima del fair value dell’a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181480"/>
            <a:ext cx="9068040" cy="121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uccessivamente all’iscrizione di impairment è possibile rilevare riprese di valore qualora questa possa essere correlata ad eventi avvenuti successivamente la rilevazione della perdita durevole di valore (par. 12.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riprese di valore devono essere rilevate a conto economico anche quando relative a strumenti di equity oggetto di valutazione al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Tale possibilità  è esclusa dall’attuale IAS 3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60AA-FA91-45B0-AF4C-6926C2326B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3920" y="127008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derecognition di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attività finanziarie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è possibile qualora risultino soddisfatte le seguenti condizioni (par. 12.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diritti contrattuali a ricevere i cash flows dell’attività scadono oppure sono regol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6557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impresa trasferisce tutti 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gnificativi dell’attiv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590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3415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impresa mantiene parte de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gnificativi dell’attività ma cede il controllo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(inteso come possibilità di cedere l’attività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276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038480"/>
            <a:ext cx="8991720" cy="1295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Qualora la cessione non presenti le caratteristiche per effettuare la derecognition è necessari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antenere l’attività ceduta nell’attivo di stato patrimon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rilevare una passività per l’importo ricev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5638680"/>
            <a:ext cx="1447560" cy="6397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sività finanzi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 12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5638680"/>
            <a:ext cx="8043840" cy="639720"/>
          </a:xfrm>
          <a:custGeom>
            <a:avLst/>
            <a:gdLst>
              <a:gd name="textAreaLeft" fmla="*/ 0 w 8043840"/>
              <a:gd name="textAreaRight" fmla="*/ 8043840 w 80438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 passività finanziarie devono essere cancellate dal bilancio all’esti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zione 12 non prevede l’obbligo di derecogntion di passività in caso di loro riacqui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3240" y="228600"/>
            <a:ext cx="16225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e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0683-AE47-4307-BF1D-9BC793FFEC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3920" y="121932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hedge accounting, consentito dalla sezione 12, rappresenta una versione più semplificata ma più “regolamentata” di quello previsto da IAS 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62080" y="2619360"/>
            <a:ext cx="7391520" cy="3668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fisso e variabile 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62080" y="4276800"/>
            <a:ext cx="7391520" cy="36648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commodity deten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62080" y="3448080"/>
            <a:ext cx="7391520" cy="3668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impegni o di una transazione futura molto prob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62080" y="5105520"/>
            <a:ext cx="7391520" cy="51264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impegni o di transazioni previste future ad acquistare una commo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62080" y="6081840"/>
            <a:ext cx="7391520" cy="318960"/>
          </a:xfrm>
          <a:custGeom>
            <a:avLst/>
            <a:gdLst>
              <a:gd name="textAreaLeft" fmla="*/ 0 w 7391520"/>
              <a:gd name="textAreaRight" fmla="*/ 7391880 w 73915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un investimento in un’attività es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828800"/>
            <a:ext cx="8839080" cy="457200"/>
          </a:xfrm>
          <a:custGeom>
            <a:avLst/>
            <a:gdLst>
              <a:gd name="textAreaLeft" fmla="*/ 0 w 8839080"/>
              <a:gd name="textAreaRight" fmla="*/ 8839440 w 88390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zione 12 definisce nel dettaglio i rischi “copribili” e le tipologie di copertura ad essi applicabili (par. 12.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03E9-72ED-49D8-884D-29B4D4D29E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3920" y="121932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applicazione dell’hedge accounting è subordinata alle seguenti condizioni (par.12.28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’impresa designa e documenta la relazione di copertura in modo che lo strumento coperto, il derivato di copertura e il rischio coperto siano ben identific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843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 rischio coperto è uno dei rischi citati nella slide preced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195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646440"/>
            <a:ext cx="8382240" cy="6969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 prevede che le variazioni nel fair value o nei cash flows dello strumento coperto attribuibili al rischio coperto siano “almost fully offset” dalle variazioni nel fair value o nei cash flows del derivato di cop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733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648320"/>
            <a:ext cx="8839440" cy="60948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er dimostrare il requisito di “almost fully offset” (efficacia) non ci si basa su test di efficacia ma sull’analisi delle caratteristiche dello strumento di copertura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715000"/>
            <a:ext cx="8839440" cy="609480"/>
          </a:xfrm>
          <a:custGeom>
            <a:avLst/>
            <a:gdLst>
              <a:gd name="textAreaLeft" fmla="*/ 0 w 8839440"/>
              <a:gd name="textAreaRight" fmla="*/ 8839800 w 8839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aratteristiche dello strumento di copertura devono rispecchiare il più possibile quelle dello strumento coper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300640"/>
            <a:ext cx="762120" cy="380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23FE-D9A0-4E3A-88CF-D22C6A7A1F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1371600"/>
            <a:ext cx="9219960" cy="60948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requisito di “almost fully offset” è rispettato se il derivato di copertura presenta le seguenti condizioni (par.12.30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286000"/>
            <a:ext cx="8458200" cy="9907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contratto è 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terest rate swa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eign currency swap/forward indicizzato alla medesima valuta di denominazione della posta coper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ward indicizzato a una commodity con le medesime caratteristiche della commodity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590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5496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 nozionale del derivato di copertura è pari al valore nominale oggetto di copertura della posta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505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1590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Ha una scadenza non superiore a quella dello strumento coperto e non prevede clausole di prepayment, estinzione anticipata o di estensione della du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114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844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 un fair value pari a zero all’iscrizione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4547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 prevede clausole di regolamento dipendente da eventi futuri non associati al rischio co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5410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60642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on presenta particolari condizioni che possono invalidare l’aspettativa di “Almost Fully Offse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0199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70A9-F5A5-4C21-B018-71F0302C44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371600"/>
            <a:ext cx="9219960" cy="38088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lo strumento di copertura è un IRS sono inoltre necessarie le seguenti condizioni (par. 12.31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4066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esenta un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tasso fiss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costante lungo l’intera vita dello sw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362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302080"/>
            <a:ext cx="8458200" cy="6415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esenta repricing dates che corrispondono al </a:t>
            </a:r>
            <a:r>
              <a:rPr b="0" i="1" lang="it-IT" sz="1200" spc="-1" strike="noStrike">
                <a:solidFill>
                  <a:srgbClr val="000000"/>
                </a:solidFill>
                <a:latin typeface="Verdana"/>
              </a:rPr>
              <a:t>timing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gli interessi e delle repricing date dello strumento co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257800"/>
            <a:ext cx="457200" cy="770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124080"/>
            <a:ext cx="8153280" cy="6098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er le coperture di strumenti a tasso variabil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enta il medesimo tasso variabile dell’attività/passività cope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4038480"/>
            <a:ext cx="8153280" cy="6098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er le coperture di strumenti a tasso fiss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senta un tasso variabile quotato sul mercato e basato sul medesimo indice lungo la sua intera v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0481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F9B9-EC52-4A5F-ADB5-D012B963C6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220968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29" y="0"/>
                </a:lnTo>
                <a:lnTo>
                  <a:pt x="21600" y="10800"/>
                </a:lnTo>
                <a:lnTo>
                  <a:pt x="20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fisso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0020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1" y="0"/>
                </a:lnTo>
                <a:lnTo>
                  <a:pt x="21600" y="10800"/>
                </a:lnTo>
                <a:lnTo>
                  <a:pt x="204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commodity detenu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336840"/>
            <a:ext cx="4038840" cy="4874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8" y="0"/>
                </a:lnTo>
                <a:lnTo>
                  <a:pt x="21600" y="10800"/>
                </a:lnTo>
                <a:lnTo>
                  <a:pt x="203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tasso di strumenti a tasso variabile valutati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724280"/>
            <a:ext cx="4038840" cy="3668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30" y="0"/>
                </a:lnTo>
                <a:lnTo>
                  <a:pt x="21600" y="10800"/>
                </a:lnTo>
                <a:lnTo>
                  <a:pt x="206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impegni o di una transazione futura molto prob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438880"/>
            <a:ext cx="4038840" cy="51264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0" y="0"/>
                </a:lnTo>
                <a:lnTo>
                  <a:pt x="21600" y="10800"/>
                </a:lnTo>
                <a:lnTo>
                  <a:pt x="208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schio prezzo di impegni o di transazioni previste future ad acquistare una commo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6157800"/>
            <a:ext cx="4038840" cy="31932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99" y="0"/>
                </a:lnTo>
                <a:lnTo>
                  <a:pt x="21600" y="10800"/>
                </a:lnTo>
                <a:lnTo>
                  <a:pt x="208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 cambio di un investimento in un’attività es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1523880"/>
            <a:ext cx="5029200" cy="10670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 strumento di copertura è valutato al fair value con iscrizione delle differenze a conto econo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valore dello strumento coperto è adeguato delle variazioni di fair value dello strumento di  copertura (par. 12.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3048120"/>
            <a:ext cx="5029200" cy="106668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variazioni di fair value dello strumento di copertura sono iscritte a 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differenziale maturato sullo strumento di copertura è rilevato a conto economico (par. 12.3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724280"/>
            <a:ext cx="5029200" cy="175284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e variazioni di fair value dello strumento di copertura sono iscritte a 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Arial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riserva di PN è riclassificata a conto economico nel momento in cui questo è influenzato dalla posta cope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par. 12.3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9160" y="228600"/>
            <a:ext cx="20170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21A4-018C-478E-AACF-C3AD436604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1371600"/>
            <a:ext cx="9219960" cy="53352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ulta necessario indicare i criteri valutativi e le politiche contabili utilizzati per gli strumenti finanziari (Par. 12.3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209680"/>
            <a:ext cx="9219960" cy="53352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tato patrimoniale o in nota integrativa occorre indicare il valore delle seguenti categorie di strumenti finanziari (indicandone altresì la composizione se rilevante) (Par. 12.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0160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ività finanziarie valutate al fai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71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6259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ività finanziarie valutate al costo ammortizz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581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423540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trumenti di equity valutati al cos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191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4844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mpegni forward e opzioni valutati al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5454720"/>
            <a:ext cx="845820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sività finanziarie valutate al fair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5410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987880"/>
            <a:ext cx="845820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ssività finanziarie valutate al costo ammortizz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943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8807-E49C-463D-8DFB-466A10EA58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1447920"/>
            <a:ext cx="9219960" cy="53316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 gli strumenti oggetto di valutazione al fair value occorre indicare i criteri utilizzati per la determinazione di tale valore (Par. 12.4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209680"/>
            <a:ext cx="8458200" cy="5335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l caso di strumenti valutati al costo ammortizzato non è necessario indicare il fair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ccorre, tuttavia, indicare le caratteristiche (tasso di interesse, rischio cambio e rischio credito) che possono influenzare i futuri flussi di cassa (par. 12.5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165400"/>
            <a:ext cx="457200" cy="639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200400"/>
            <a:ext cx="7391520" cy="9907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el caso di cessioni che non soddisfano i requisiti per la derecognition occorre indic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atura dell’att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atura dei risk and re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mmontare dell’attività e dell’associata passivi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200400"/>
            <a:ext cx="1676520" cy="9907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par. 12.4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4572000"/>
            <a:ext cx="7391520" cy="7621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i crediti passivi occorre indicare i dettagli di eventuali default avvenuti nell’esercizio, il relativo valore contabile e se tale default è stato rimediato (anche attraverso la rinegoziazione delle condizioni contrattu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572000"/>
            <a:ext cx="1676520" cy="76212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diti pass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par. 12.4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5562720"/>
            <a:ext cx="7391520" cy="7617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e l’impresa ha prestato  attività come collateral deve indicarne il valore contabile e le condizioni relativamente alle quali la garanzia è stata prest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562720"/>
            <a:ext cx="1676520" cy="7617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ollat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par. 12.4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5AB3-AEA7-412D-A64A-EE39ED61D7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371600"/>
            <a:ext cx="86108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ccorre indicare separatamente per le diverse tipologie di copertura posta in essere (par. 12.49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057400"/>
            <a:ext cx="5800680" cy="376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a descrizione della copert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971800"/>
            <a:ext cx="5800680" cy="4287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a descrizione degli strumenti finanziari di copertura e il relativo fair value alla data di bilan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4038480"/>
            <a:ext cx="5800680" cy="2685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 natura dei rischi copert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560" y="2057400"/>
            <a:ext cx="2293920" cy="304920"/>
          </a:xfrm>
          <a:prstGeom prst="rightArrow">
            <a:avLst>
              <a:gd name="adj1" fmla="val 50000"/>
              <a:gd name="adj2" fmla="val 1880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048120"/>
            <a:ext cx="2293920" cy="304560"/>
          </a:xfrm>
          <a:prstGeom prst="rightArrow">
            <a:avLst>
              <a:gd name="adj1" fmla="val 50000"/>
              <a:gd name="adj2" fmla="val 1882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560" y="3962520"/>
            <a:ext cx="2293920" cy="304560"/>
          </a:xfrm>
          <a:prstGeom prst="rightArrow">
            <a:avLst>
              <a:gd name="adj1" fmla="val 50000"/>
              <a:gd name="adj2" fmla="val 1882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4648320"/>
            <a:ext cx="9219960" cy="533160"/>
          </a:xfrm>
          <a:custGeom>
            <a:avLst/>
            <a:gdLst>
              <a:gd name="textAreaLeft" fmla="*/ 0 w 9219960"/>
              <a:gd name="textAreaRight" fmla="*/ 9220320 w 9219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er le coperture di fair value di strumenti a tasso fisso o di commodity occorre indicare la variazione di fair value dello strumento di copertura (coperto) iscritta a conto economico (par. 12.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F84E-DCFE-42C7-B0DD-4CD6FC47A6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14440" y="6156360"/>
            <a:ext cx="8915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marL="511200" indent="-511200">
              <a:lnSpc>
                <a:spcPct val="100000"/>
              </a:lnSpc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90080"/>
            <a:ext cx="823464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marL="380880" indent="-380880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n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1022400"/>
                <a:tab algn="l" pos="2044800"/>
                <a:tab algn="l" pos="3067200"/>
                <a:tab algn="l" pos="4089240"/>
                <a:tab algn="l" pos="5111640"/>
                <a:tab algn="l" pos="6134040"/>
                <a:tab algn="l" pos="7156440"/>
                <a:tab algn="l" pos="8178840"/>
                <a:tab algn="l" pos="9201240"/>
                <a:tab algn="l" pos="1022364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055520"/>
            <a:ext cx="9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57480" y="290664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152280"/>
            <a:ext cx="9601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900" spc="-1" strike="noStrike">
                <a:solidFill>
                  <a:srgbClr val="ffffff"/>
                </a:solidFill>
                <a:latin typeface="Arial"/>
              </a:rPr>
              <a:t>Le informazioni contenute nel documento sono altamente riservate e strettamente confidenziali, il documento non può in nessun caso essere consegnato a terze parti ed è indirizzato e rivolto esclusivamente ai destinatari diretti del materiale. E’ pertanto vietata qualsiasi tipo e forma di riproduzione e divulgazione a soggetti diversi dai destinatari. Esso non costituisce in alcun modo offerta o sollecitazione ad effettuare operazioni in strumenti finanziari. Le informazioni contenute nei documenti servono solo per l’approfondimento di tematiche specifiche e non possono essere utilizzate per la valutazione delle posizioni in essere ovvero per la certificazione di operazioni o di evidenze contabili. Inoltre, pur essendo le informazioni, le opinioni, le valutazioni, le stime o le previsioni contenute nei documenti basate su fonti ritenute affidabili, la Banca non esprime in alcun modo un giudizio, diretto o indiretto, sulle stess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44520" y="335268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57480" y="375300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49200" y="419112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49200" y="2438280"/>
            <a:ext cx="9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514600"/>
            <a:ext cx="7010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nalogie e differenze con 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lassif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Hedge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Discl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52440" y="4621320"/>
            <a:ext cx="9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F943-2917-428E-B91F-715846DB01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73520" y="228600"/>
            <a:ext cx="12294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Disclo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447920"/>
            <a:ext cx="899172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Nel caso di coperture di strumenti a tasso variabile,  di  transazioni future o di investimenti in gestione estere occorre, inoltre, indicare (par. 12.5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170080"/>
            <a:ext cx="6553080" cy="30492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l periodo in cui si suppone che si verificheranno i cash f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733840"/>
            <a:ext cx="6553080" cy="3045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Quando tali cash flow incideranno sul cont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3297240"/>
            <a:ext cx="655308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descrizione delle transazioni previste coperte ma che si presume non si verificheranno in fut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936960"/>
            <a:ext cx="655308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iscritto a patrimonio netto nel corso dell’eserci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4576680"/>
            <a:ext cx="655308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rimosso dal patrimonio netto nel corso dell’esercizio e incluso nel conto econom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5218200"/>
            <a:ext cx="6553080" cy="53316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ammontare rimosso dal patrimonio netto nel corso dell’esercizio e incluso nel valore di carico dell’attività/passività non finanziaria coperta nell’ambito della copertura di una transazione p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2170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270360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33130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96072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60836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530712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32F9-A0E5-4969-B0F9-74E32AF118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3623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371600"/>
            <a:ext cx="746784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i prevedono due sole categorie di attività finanziarie (Costo e Fair value). Non si prevede alcuna categoria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“Available for sale” alike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E’ consentita l’applicazione della fair value option non subordinata al rispetto delle condizioni attualmente previste da IAS 39 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è prevista la possibilità di scorporare gl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embedded derivatives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strutturati devono essere obbligatoriamente valutati al 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- Le caratteristiche degli strumenti da valutare al costo ammortizzato sono chiaramente definite (par. 12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181480"/>
            <a:ext cx="16765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alu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648320"/>
            <a:ext cx="746784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no consentite due metodologie di valutazione: Costo/costo ammortizzato e Fair value (par. 12.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guidance fornita per la determinazione del fair value è del tutto analoga a quella prevista da IAS 39 (Appendix to section 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condo le definizioni riportate il costo ammortizzato è calcolato sulla base dei flussi di cassa attesi (come in IAS 39) (Glossar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6532-64ED-4A85-A723-E15F43B3CB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3623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1371600"/>
            <a:ext cx="7467840" cy="259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concetti di incurred losses e di valutazione collettiva, pur non indicati, sono richiamati dalla lettura della norma (par. 12.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metodo per il calcolo dell’impairment degli strumenti al costo ammortizzato è il medesimo previsto da IAS 39 mentre il metodo per quelli al costo è, nella lettera, diverso da quello previsto da IAS 39. Tuttavia i due metodi sembrano voler pervenire a risultati analoghi (par. 12.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ono possibili riprese di valore a C/e su strumenti di equity valutati al costo (par. 12.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1055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De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4495680"/>
            <a:ext cx="75438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me in IAS 39 la derecognition si basa sulla cessione di tutti i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significant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risk and rewards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nnessi all’attività ceduta e, in subordine, sulla cessione del controllo (par. 12.2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è prevista la possibilità di rilevare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 continuing invol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l riacquisto di passività emesse non è causa di derecogntion di proprie passività (par. 12.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C0AC-2F4E-4DAB-9BE8-0F7750BC0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905120"/>
            <a:ext cx="16765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Hedge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523880"/>
            <a:ext cx="7467840" cy="2819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 regole per l’applicazione dell’hedge accounting sono semplificate ma sono soggette a condizioni più stringenti rispetto a quelle previste da IAS 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ezione 12 definis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Verdana"/>
              </a:rPr>
              <a:t>nel dettaglio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strumenti di copertura e loro caratteris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ipologie di rischi copribili e contabilità ad essi applic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Verdana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verifica dell’efficacia si basa sull’analisi delle caratteristiche dello strumento di copertura rispetto alla posta coperta (parr. 12.30, 12.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5680" y="228600"/>
            <a:ext cx="3416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Analogie e differenze con IAS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D148-84C8-4186-8731-8D3FC06089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70080"/>
            <a:ext cx="929628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a sezione 12 prevede solamente due categorie di classificazione sia per le attività sia per le passività (parr. 12.7, 12.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133720"/>
            <a:ext cx="2057400" cy="2176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sto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72000"/>
            <a:ext cx="2057400" cy="1143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air value con iscrizione delle differenze a conto econom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133720"/>
            <a:ext cx="6934320" cy="2176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zioni (e opzioni ad esse collegate) non quotate pubblicamente e il cui fair value non può essere determinato in modo affid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egni ad erogare/ricevere finanziamenti che l’impresa decide di valutar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umenti di debito che prevedono caratteristiche determinate dal principio e che l’impresa decide di valutare al 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572000"/>
            <a:ext cx="6934320" cy="11430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alunque strumento non valutato al costo/costo ammorti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5760" y="5918040"/>
            <a:ext cx="949176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Non sono ammesse riclassificazioni di strumenti finanziari da una classe all’altra (par. 12.1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228600"/>
            <a:ext cx="1663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91A7-54F5-494C-A0BD-8F4920C0DC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3920" y="1270080"/>
            <a:ext cx="930096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 poter essere valutati al costo ammortizzato gli strumenti di debito devono presentare una serie di caratteristiche (par. 12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969920"/>
            <a:ext cx="8382240" cy="38124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deve presentare una scadenza oppure deve essere pagabile a 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732040"/>
            <a:ext cx="8382240" cy="38088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richiede il rimborso di tutto l’ammontare ricevuto oppure erog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9416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rende un ammontare fisso, un tasso fisso, oppure un tasso di interesse variabile che è quotato od osserva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425592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 strumento non prevede clausole contrattuali in base alle quali il detentore possa non recuperare il nozionale e gli interessi per ragioni diverse da perdite su credi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941720"/>
            <a:ext cx="8382240" cy="457200"/>
          </a:xfrm>
          <a:prstGeom prst="rect">
            <a:avLst/>
          </a:prstGeom>
          <a:gradFill rotWithShape="0">
            <a:gsLst>
              <a:gs pos="0">
                <a:srgbClr val="dedede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2929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ausole contrattuali di rimborso anticipato non possono essere dipendenti da eventi futu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9417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255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9416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698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905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930132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n base a tali regole sembrano essere valutabili al costo ammortizzato solamente i crediti/titol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plain vanilla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I crediti/titoli convertibili o in altro modo strutturati devono essere valutati al 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228600"/>
            <a:ext cx="1663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6E6A-B6C1-4FBB-AA1A-C7EA0157C2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3920" y="1143000"/>
            <a:ext cx="930096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Al termine di ogni esercizio gli strumenti valutati al costo/costo ammortizzato devono valutati al fine di individuare </a:t>
            </a:r>
            <a:r>
              <a:rPr b="0" i="1" lang="it-IT" sz="1400" spc="-1" strike="noStrike">
                <a:solidFill>
                  <a:srgbClr val="000000"/>
                </a:solidFill>
                <a:latin typeface="Verdana"/>
              </a:rPr>
              <a:t>evidenze oggettive di impairment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(parr. 12.18, 12.1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7960" y="1863720"/>
            <a:ext cx="6330960" cy="320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tive difficoltà finanziarie dell’emit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17960" y="234468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zione degli accordi contrattuali quali l’inadempienza oppure il mancato pagamento del capitale o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17960" y="298440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’estensione dal creditore al debitore di concessioni motivate dalle difficoltà finanziarie del debi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7960" y="3624120"/>
            <a:ext cx="6330960" cy="479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a probabilità di fallimento o di altra riorganizzazione finanziaria del debi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17960" y="4264200"/>
            <a:ext cx="6330960" cy="479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mparsa dell’attività finanziaria da un mercato attivo a seguito delle difficoltà finanziarie sperimentate dall’emit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7960" y="4863960"/>
            <a:ext cx="6330960" cy="1155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enza di dati osservabili indicativi di un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minuzione misurabile, rispetto all’ iscrizione inizi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nei futuri cash flow stimati di un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uppo di attività finanziarie sebbene tale decremento non possa essere ancora attribuito a specifiche attivi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sempi sono dati da condizioni geografiche o settoriali av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3265560"/>
            <a:ext cx="1863720" cy="1360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6b88a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videnze oggettive di impair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9560" y="1863720"/>
            <a:ext cx="323640" cy="4156200"/>
          </a:xfrm>
          <a:custGeom>
            <a:avLst/>
            <a:gdLst>
              <a:gd name="textAreaLeft" fmla="*/ 207000 w 323640"/>
              <a:gd name="textAreaRight" fmla="*/ 324000 w 323640"/>
              <a:gd name="textAreaTop" fmla="*/ 108360 h 4156200"/>
              <a:gd name="textAreaBottom" fmla="*/ 4047840 h 415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186228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242244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03228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65760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327560"/>
            <a:ext cx="4251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4876920"/>
            <a:ext cx="4251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48503-A315-4FE1-AFEA-BF6052FD6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546200"/>
            <a:ext cx="3048120" cy="60948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ttività finanziarie individualmente signific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1600200"/>
            <a:ext cx="2667240" cy="53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67652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590920"/>
            <a:ext cx="3048120" cy="533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ttività finanziarie non signific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590920"/>
            <a:ext cx="2667240" cy="533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collet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666880"/>
            <a:ext cx="2514600" cy="381240"/>
          </a:xfrm>
          <a:prstGeom prst="rightArrow">
            <a:avLst>
              <a:gd name="adj1" fmla="val 50000"/>
              <a:gd name="adj2" fmla="val 1648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581280"/>
            <a:ext cx="3048120" cy="533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b8c6d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zioni valutate al 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581280"/>
            <a:ext cx="2667240" cy="533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getto di valutazione anali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2514600" cy="380880"/>
          </a:xfrm>
          <a:prstGeom prst="rightArrow">
            <a:avLst>
              <a:gd name="adj1" fmla="val 50000"/>
              <a:gd name="adj2" fmla="val 1650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572000"/>
            <a:ext cx="8921880" cy="1600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ezione 12 non fa riferimenti espliciti al concetto d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curred loss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é prevede la necessità di valutare collettivamente le attività per le quali la valutazione analitica non restituisce evidenze oggettive di impair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uttavi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necessità di valutazione analitica è richiamata dalla condizione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 la lettera della condizione f) (…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diminuzione misurabile, rispetto all’ iscrizione inizia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…) richiama il concetto d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curred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72440" y="228600"/>
            <a:ext cx="14043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189D-0356-4DBA-BBB1-242F08D103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8:30:40Z</dcterms:created>
  <dc:creator>Administrator</dc:creator>
  <dc:description/>
  <cp:keywords/>
  <dc:language>en-US</dc:language>
  <cp:lastModifiedBy>claudia</cp:lastModifiedBy>
  <cp:lastPrinted>2003-11-20T09:44:48Z</cp:lastPrinted>
  <dcterms:modified xsi:type="dcterms:W3CDTF">2006-10-05T16:14:55Z</dcterms:modified>
  <cp:revision>629</cp:revision>
  <dc:subject/>
  <dc:title>PowerPoint Presentation</dc:title>
</cp:coreProperties>
</file>