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15CA-4807-4133-AB01-E76C01BDB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7B2C-C4F7-42D0-9E88-35E978AD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E6B5-7E7B-410A-80DC-770965160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D8A2-E881-4245-AC85-AC5E677E7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EA049-FD6D-4DD6-844F-F62F68E60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88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0A413-048D-4BCA-8062-731C3A9B0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1D5FE-E3A8-4A16-9545-1DA4D9A92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716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4D4C4-310A-40BE-B4D8-8A75AC2F7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1A60C-B7B8-4F99-80D1-B1F194144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E6631-C9FF-4794-B829-19A47204E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716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8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F2AF0-7331-4947-83CA-34B3AE85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94C9-CEA7-4DB4-ACE0-5723D83D4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716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3716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0B27C-876E-4B32-B559-183AD617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716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88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5BEEA-1A23-4F31-8DA8-0EA17F36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88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1FECA-66E3-4A45-95BB-5D61E6914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3716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3716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909B8-41D5-4B6C-8A8C-C1B95A3EC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8960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9796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88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8960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9796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89B7F-44B6-4E01-A64F-16A4E0059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1053-DC28-4FC6-B1AB-BF713F9FA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9D9C-07BF-4FB7-AD05-F4039A2BC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DCD0-80A5-48AA-8007-EFD7A0942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4B2F-D94E-4CFF-BA13-E7E18F234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8D7D-F18B-41F7-9ED2-EBB069C4F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5FC0-A9F6-473B-8A87-13FA069B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0A0B-679C-4485-A364-7D727ECC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57520" cy="130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oma, 6 ottobre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A1A13-0890-4028-9ACE-388528E22B8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7E655-A7EE-4118-82E7-E09F4B7EE03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80"/>
                </a:solidFill>
                <a:latin typeface="Arial"/>
              </a:rPr>
              <a:t>I progetti OIC e IASB</a:t>
            </a:r>
            <a:br>
              <a:rPr sz="3600"/>
            </a:br>
            <a:r>
              <a:rPr b="1" lang="it-IT" sz="3600" spc="-1" strike="noStrike">
                <a:solidFill>
                  <a:srgbClr val="000080"/>
                </a:solidFill>
                <a:latin typeface="Arial"/>
              </a:rPr>
              <a:t>per le SME</a:t>
            </a:r>
            <a:br>
              <a:rPr sz="3600"/>
            </a:br>
            <a:r>
              <a:rPr b="0" lang="it-IT" sz="3600" spc="-1" strike="noStrike">
                <a:solidFill>
                  <a:srgbClr val="000080"/>
                </a:solidFill>
                <a:latin typeface="Arial"/>
              </a:rPr>
              <a:t>(</a:t>
            </a:r>
            <a:r>
              <a:rPr b="0" lang="it-IT" sz="2400" spc="-1" strike="noStrike">
                <a:solidFill>
                  <a:srgbClr val="000080"/>
                </a:solidFill>
                <a:latin typeface="Arial"/>
              </a:rPr>
              <a:t>Small and Medium Entities</a:t>
            </a:r>
            <a:r>
              <a:rPr b="0" lang="it-IT" sz="3600" spc="-1" strike="noStrike">
                <a:solidFill>
                  <a:srgbClr val="00008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0" y="38095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99"/>
                </a:solidFill>
                <a:latin typeface="Arial"/>
              </a:rPr>
              <a:t>ASSONANZE e DISSONANZ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515304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52360" y="5168880"/>
            <a:ext cx="546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of. Angelo Provas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esidente del Comitato Esecutivo O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249408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80"/>
                </a:solidFill>
                <a:latin typeface="Arial"/>
              </a:rPr>
              <a:t>Assonanze e Dissonanze</a:t>
            </a:r>
            <a:br>
              <a:rPr sz="3600"/>
            </a:b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Criteri di valutazione - Partecipazioni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80"/>
                </a:solidFill>
                <a:latin typeface="Arial"/>
              </a:rPr>
              <a:t>Progetto O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rtecipazioni di controllo, joint ventures e di collegamen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sente l’alternativa tra il metodo del costo e quello del patrimonio ne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rtecipazioni di minoranza (strumenti finanziari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sente l’alternativa tra il metodo del costo e il fair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80"/>
                </a:solidFill>
                <a:latin typeface="Arial"/>
              </a:rPr>
              <a:t>Progetto IAS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rtecipazioni di controllo (in non quotate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evede nel bilancio separato il metodo del costo o il fair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Joint ventures e partecipazioni di collegamen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evede il metodo del costo, del patrimonio netto, o il fair valu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rtecipazioni di minoranza (strumenti finanziari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evede il fair value. Il costo è ammesso solo nel caso che il fair value risulti inattendib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‘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r le joint ventures è consentito anche il consolidamento proporzion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80"/>
                </a:solidFill>
                <a:latin typeface="Arial"/>
              </a:rPr>
              <a:t>Assonanze e Dissonanze</a:t>
            </a:r>
            <a:br>
              <a:rPr sz="3600"/>
            </a:b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Criteri di valutazione - Imposte differite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80"/>
                </a:solidFill>
                <a:latin typeface="Arial"/>
              </a:rPr>
              <a:t>Progetto O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evede che si calcolino sulle differenze temporanee tra i valori civilistici e valori fiscali degli elementi dell’attivo e del pass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80"/>
                </a:solidFill>
                <a:latin typeface="Arial"/>
              </a:rPr>
              <a:t>Progetto IAS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evede il calcolo sulla base delle sole differenze tra il risultato d’esercizio e il reddito imponibile, senza riguardo alle differenze patrimoni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80"/>
                </a:solidFill>
                <a:latin typeface="Arial"/>
              </a:rPr>
              <a:t>Assonanze e Dissonanze</a:t>
            </a:r>
            <a:br>
              <a:rPr sz="3600"/>
            </a:b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In sintesi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progetto OIC, pur essendo abbastanza allineato alla proposta dello IASB, è in alcuni casi più flessibile per adattarsi alla realtà naziona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progetto OIC è, quindi, una tappa di avvicinamento verso l’applicazione generalizzata dei principi IASB per le S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80"/>
                </a:solidFill>
                <a:latin typeface="Arial"/>
              </a:rPr>
              <a:t>Assonanze e Dissonanze</a:t>
            </a:r>
            <a:br>
              <a:rPr sz="3600"/>
            </a:b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Schema dello Stato Patrimoniale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80"/>
                </a:solidFill>
                <a:latin typeface="Arial"/>
              </a:rPr>
              <a:t>Progetto OIC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uddivisione delle attività e passività tra correnti e non corr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odifiche consistenti alle classi di valori vig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mplificazione dello schema (più sintetico dell’attuale, analisi e dettagli in Nota integrati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liminazione di alcune voci attive (p. es. costi di impianto e ampliamento, ricerca, pubblicità) non più capitalizzabili salvo in certe condizioni i costi di svilup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ti d’ordine non presentati in calce allo schema ma in nota integr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80"/>
                </a:solidFill>
                <a:latin typeface="Arial"/>
              </a:rPr>
              <a:t>Progetto IAS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80"/>
                </a:solidFill>
                <a:latin typeface="Arial"/>
              </a:rPr>
              <a:t>consente schemi ancora più sintetici, ma la differenza è contenu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80"/>
                </a:solidFill>
                <a:latin typeface="Arial"/>
              </a:rPr>
              <a:t>I costi di sviluppo </a:t>
            </a:r>
            <a:r>
              <a:rPr b="0" i="1" lang="it-IT" sz="2000" spc="-1" strike="noStrike">
                <a:solidFill>
                  <a:srgbClr val="000080"/>
                </a:solidFill>
                <a:latin typeface="Arial"/>
              </a:rPr>
              <a:t>possono</a:t>
            </a:r>
            <a:r>
              <a:rPr b="0" lang="it-IT" sz="2000" spc="-1" strike="noStrike">
                <a:solidFill>
                  <a:srgbClr val="000080"/>
                </a:solidFill>
                <a:latin typeface="Arial"/>
              </a:rPr>
              <a:t> essere spes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80"/>
                </a:solidFill>
                <a:latin typeface="Arial"/>
              </a:rPr>
              <a:t>Assonanze e Dissonanze</a:t>
            </a:r>
            <a:br>
              <a:rPr sz="3600"/>
            </a:b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Schema del Conto Economico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Progetto OI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on troppo diverso da quello vig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Esposizione scal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Classificazione dei costi per natu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Riduzione di alcuni dettagli, da esporre nella nota integra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Rispetto al progetto IASB, quello OIC è più articolato e puntuale, ma non se ne discosta significativamente nella logica di fo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80"/>
                </a:solidFill>
                <a:latin typeface="Arial"/>
              </a:rPr>
              <a:t>Assonanze e Dissonanze</a:t>
            </a:r>
            <a:br>
              <a:rPr sz="3600"/>
            </a:b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Prospetti aggiuntivi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Progetto OI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sciplinati speficam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Prospetto delle variazioni delle voci di Patrimonio Net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Rendiconto Finanzia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Il progetto OIC è sostanzialmente allineato con il progetto IAS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80"/>
                </a:solidFill>
                <a:latin typeface="Arial"/>
              </a:rPr>
              <a:t>Assonanze e Dissonanze</a:t>
            </a:r>
            <a:br>
              <a:rPr sz="3600"/>
            </a:b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Criteri di valutazione - Fair value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80"/>
                </a:solidFill>
                <a:latin typeface="Arial"/>
              </a:rPr>
              <a:t>Progetto O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dozione del fair value: </a:t>
            </a: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obbligatori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facoltativ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oposta di non renderla obbligatoria, ma di prevedere opzioni; tuttavia, adozione obbligatoria per rilevare i contratti deriv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isciplina del fair value dettagliata per gli strumenti finanziari con imputazione della variazione a riserva o a conto economico a seconda dei ca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80"/>
                </a:solidFill>
                <a:latin typeface="Arial"/>
              </a:rPr>
              <a:t>Le opzioni per l’adozione del fair value nel progetto IASB si limitano a ridurre le categorie di tali strumenti da quattro a due, e la variazione del fair value sempre a conto economico. Non sono ammesse alternative sulle valut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80"/>
                </a:solidFill>
                <a:latin typeface="Arial"/>
              </a:rPr>
              <a:t>Assonanze e Dissonanze</a:t>
            </a:r>
            <a:br>
              <a:rPr sz="3600"/>
            </a:b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Criteri di valutazione - Fair value per altre voci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Progetto OI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evista facoltà di criteri di valutazione alternativi al costo p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mmobilizzazioni materiali e immateri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vestimenti immobilia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ttività biologiche (opzione tra presumibile valore di realizzo e costo) e prodotti agrico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Il progetto OIC sostanzialmente coincide con quello IASB; tuttav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ttività biologiche: fair value obbligatorio, salvo casi di sua indisponibil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80"/>
                </a:solidFill>
                <a:latin typeface="Arial"/>
              </a:rPr>
              <a:t>Assonanze e Dissonanze</a:t>
            </a:r>
            <a:br>
              <a:rPr sz="3600"/>
            </a:b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Criteri di valutazione</a:t>
            </a:r>
            <a:br>
              <a:rPr sz="2800"/>
            </a:b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Ammortamento dei beni materiali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n entrambi i progetti il valore da ammortizzare è la differenza tra costo d’acquisto (o fair value) e valore residu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A differenza del progetto OIC, lo IASB prescrive la rideterminazione del fair value del valore residuo alla fine di ogni periodo e quindi l’ammortamento del bene può risultare variabile di anno in an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80"/>
                </a:solidFill>
                <a:latin typeface="Arial"/>
              </a:rPr>
              <a:t>Assonanze e Dissonanze</a:t>
            </a:r>
            <a:br>
              <a:rPr sz="3600"/>
            </a:b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Criteri di valutazione</a:t>
            </a:r>
            <a:br>
              <a:rPr sz="2800"/>
            </a:b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Ammortamento dei beni immateriali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Progetto OI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mmortamento sistematico dei beni immateriali anche se a vita indefi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Progetto IASB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valore dei beni immateriali a vita indefinita non deve essere ammortizzato, ma verificato almeno annualmente (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impairment tes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80"/>
                </a:solidFill>
                <a:latin typeface="Arial"/>
              </a:rPr>
              <a:t>Assonanze e Dissonanze</a:t>
            </a:r>
            <a:br>
              <a:rPr sz="3600"/>
            </a:b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Criteri di valutazione - TFR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Progetto OI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antiene il criterio del Codice Civile  del debito matu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Progetto IASB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evede l’applicazione dei criteri di valutazione e di attualizzazione previsti dallo IAS 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1:10:19Z</dcterms:created>
  <dc:creator>Franco Franchi</dc:creator>
  <dc:description/>
  <dc:language>en-US</dc:language>
  <cp:lastModifiedBy>claudia</cp:lastModifiedBy>
  <cp:lastPrinted>1904-01-01T00:00:00Z</cp:lastPrinted>
  <dcterms:modified xsi:type="dcterms:W3CDTF">2006-10-05T16:15:13Z</dcterms:modified>
  <cp:revision>12</cp:revision>
  <dc:subject/>
  <dc:title>I progetti OIC e IASB per le SME (Small and Medium Entities)</dc:title>
</cp:coreProperties>
</file>