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03F-5E7E-4302-882B-8F226168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5FE-0E11-4709-981A-EB7A0884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B17-3BBF-4660-A8F6-C4160850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2F1-6CEC-4761-8C77-8F285730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0C5D-6819-4FD7-B9B3-B79DFE4D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81DF-CC6F-439E-A4DC-811DD264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6CA6-EC14-468D-AFA9-54F39E32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03C5-C571-47D9-ABBE-D0CE3D67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056B-28F6-40DC-B491-8FA17140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1E6B-16AE-4525-AAFF-A31A0FAD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C197-B2CF-4414-96CF-E0EB3B53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F8F-70CF-449D-AF59-C25FD0E9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46CC-7668-498E-AAE6-A1C19A79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60EE-7BC9-40F2-89C4-24CABB3B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6877-EEB7-47B8-BEEB-2A00BADE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BB7F-DCF4-4EBC-B667-5DF64F92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0597-0D38-4618-BEE3-94F055CA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EA4-137C-4E98-A051-208F062A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132-E7D9-4D18-A596-87772720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939-9713-49B1-A1EE-3333539D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A6B-8A4A-4992-8666-7B2BA1F5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EBA8-0FD1-4DA3-84AF-37B0F51B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7FE6-70AF-47F6-9F5A-245BB64F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DD1-98E8-45FF-9C57-7880C70A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89EC-6447-411C-B368-65DE107B1EF7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0EF2-32B5-4541-8E4F-95F0873F8B7F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</a:t>
            </a:r>
            <a:fld id="{11435F35-00E1-47ED-8413-29F26F6861D3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</a:rPr>
              <a:t>Ind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Origini del progetto IASB/S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25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25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L’armonizzazione contabile e il progetto IASB/S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-609480">
              <a:lnSpc>
                <a:spcPct val="25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Tempisti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 </a:t>
            </a:r>
            <a:fld id="{62EE743F-53BC-4D29-A75F-9877038120A7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1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610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1.  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Origini del progetto IASB/S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FAC – Nel 2000: difficoltà estensione IAS fuor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del circuito Società quo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2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nvergenza di tutte le professioni contabi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aesi sviluppati ed in via di svilup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ondo anglo-sassone ed europ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 </a:t>
            </a:r>
            <a:fld id="{0C3F525D-C231-42AD-86DA-3722120F778F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476280">
              <a:lnSpc>
                <a:spcPct val="25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Origini del progetto IASB/S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2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)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n-GB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nput da IFAC a IAS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FAC: SMP Committee (200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IASB: working group-(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 </a:t>
            </a:r>
            <a:fld id="{16B88B0F-A363-4119-B908-7B92E0D0798D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a base della scelt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st/benef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sers nee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2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</a:t>
            </a:r>
            <a:fld id="{3C9110A0-820C-462A-B67A-7CC3F102A52B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  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b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Sistema contabile derivato o autono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ramework – Pervasive princi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</a:t>
            </a:r>
            <a:fld id="{4BE6BAB0-08D3-4899-9A70-1A611114E172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efinizione di S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imensione – Qualit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PIE- NPA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Nessuna defini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   </a:t>
            </a:r>
            <a:fld id="{05D73EEC-BB00-401B-A533-27637987D4C5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228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I principali problemi e le prime decis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)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Le attuali linee gui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edie Imprese o Micro-ent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</a:t>
            </a:r>
            <a:fld id="{9E529B7D-985B-44BB-9261-68B9ED2F18C2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3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L’armonizzazione contabile e il progetto IASB/S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nione Europ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</a:t>
            </a:r>
            <a:r>
              <a:rPr b="0" lang="it-IT" sz="1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SA e Can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ffcc66"/>
                </a:solidFill>
                <a:latin typeface="Bookman Old Style"/>
              </a:rPr>
              <a:t>Relatore Dott. Angelo Casò</a:t>
            </a: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Studio Casò – Dottori Commercialisti Associati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Via Bigli 21 – 20121 Milano 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tel. 027712961 – fax 02781714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acaso@erse.it</a:t>
            </a:r>
            <a:br>
              <a:rPr sz="1200"/>
            </a:br>
            <a:r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                                                                                                                                                    </a:t>
            </a:r>
            <a:fld id="{481670BC-B7A4-4585-AD1C-54EB287E4A24}" type="slidenum">
              <a:rPr b="0" lang="it-IT" sz="1200" spc="-1" strike="noStrike">
                <a:solidFill>
                  <a:srgbClr val="ffcc66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7239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4.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Bookman Old Style"/>
                <a:ea typeface="Times New Roman"/>
              </a:rPr>
              <a:t>Tempis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efinitivo: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Utilizzo: 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</a:t>
            </a:r>
            <a:r>
              <a:rPr b="0" lang="it-IT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Aggiornamen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8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8:14:14Z</dcterms:created>
  <dc:creator>ERSE</dc:creator>
  <dc:description/>
  <dc:language>en-US</dc:language>
  <cp:lastModifiedBy>claudia</cp:lastModifiedBy>
  <dcterms:modified xsi:type="dcterms:W3CDTF">2006-10-05T16:14:03Z</dcterms:modified>
  <cp:revision>14</cp:revision>
  <dc:subject/>
  <dc:title>Presentazione di PowerPoint</dc:title>
</cp:coreProperties>
</file>