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907588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108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108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57320" y="19810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71960" y="198108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57320" y="41306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71960" y="4130640"/>
            <a:ext cx="287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108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5120" y="228600"/>
            <a:ext cx="8420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108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35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108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1080" y="413064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1080" y="1981080"/>
            <a:ext cx="4350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915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lick to edit the outline text format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lvl="1" marL="653760" indent="-2512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Second Outline Level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hird Outline Level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lvl="3" marL="1407960" indent="-20088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Fourth Outline Level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lvl="4" marL="1810440" indent="-200880">
              <a:spcBef>
                <a:spcPts val="90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Fifth Outline Level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Sixth Outline Level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Seventh Outline Level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8915400" y="617220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088E-6D49-4ACC-B9B5-6592DE3761F6}" type="slidenum">
              <a:rPr b="1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247680" y="228600"/>
            <a:ext cx="928800" cy="8287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3467160" y="632448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Tahoma"/>
                <a:ea typeface="Tahoma"/>
              </a:rPr>
              <a:t>© 2006 IASC Foundation,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73160" y="533520"/>
            <a:ext cx="842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The IASB Project on Accounting Standards for S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73160" y="2514600"/>
            <a:ext cx="833760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Gilbert G</a:t>
            </a:r>
            <a:r>
              <a:rPr b="1" lang="fr-FR" sz="3600" spc="-1" strike="noStrike">
                <a:solidFill>
                  <a:srgbClr val="00ff00"/>
                </a:solidFill>
                <a:latin typeface="Tahoma"/>
              </a:rPr>
              <a:t>él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IASB Board Me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ome, 6 October 200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Verdana"/>
              </a:rPr>
              <a:t>IASB Approach</a:t>
            </a: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7320" y="837720"/>
            <a:ext cx="93279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1840" indent="-455400">
              <a:spcBef>
                <a:spcPts val="901"/>
              </a:spcBef>
              <a:buClr>
                <a:srgbClr val="ffffff"/>
              </a:buClr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Recognition and measurement simplifications, page 2 of 2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2" marL="1246320" indent="-243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Arial Unicode MS"/>
              </a:rPr>
              <a:t>Less fair value for agriculture – only if “readily available” fair value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246320" indent="-243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Arial Unicode MS"/>
              </a:rPr>
              <a:t>Defined benefit plans – principle approach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246320" indent="-243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Arial Unicode MS"/>
              </a:rPr>
              <a:t>Share-based payment – intrinsic value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246320" indent="-243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Arial Unicode MS"/>
              </a:rPr>
              <a:t>First-time adoption – less prior data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246320" indent="-243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Arial Unicode MS"/>
              </a:rPr>
              <a:t>Component depreciation not required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Verdana"/>
              </a:rPr>
              <a:t>IASB Approach</a:t>
            </a: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066320"/>
            <a:ext cx="93279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46160" indent="-609480">
              <a:spcBef>
                <a:spcPts val="799"/>
              </a:spcBef>
              <a:buClr>
                <a:srgbClr val="ffffff"/>
              </a:buClr>
              <a:buFont typeface="Verdana"/>
              <a:buAutoNum type="arabicPeriod" startAt="9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ME must try to find answers in SME standard by analogy and by using pervasive principles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99"/>
              </a:spcBef>
              <a:buClr>
                <a:srgbClr val="ffffff"/>
              </a:buClr>
              <a:buFont typeface="Verdana"/>
              <a:buAutoNum type="arabicPeriod" startAt="9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ut – SM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must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look to full IFRSs as a “safety net” – if answer cannot be found otherwise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601640" indent="-6094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pected to be rare for typical SME.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Verdana"/>
              </a:rPr>
              <a:t>Other Issues</a:t>
            </a: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320" y="1066320"/>
            <a:ext cx="93279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46160" indent="-60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uitability for micro-SMEs (tiny)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Usefulness to managers of SMEs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Usefulness for tax returns and dividend distribution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eparate company statements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mbined statement of income and retained earnings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urisdiction can eliminate options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mall listed companies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ff00"/>
                </a:solidFill>
                <a:uFillTx/>
                <a:latin typeface="Verdana"/>
              </a:rPr>
              <a:t>Rejected</a:t>
            </a:r>
            <a:r>
              <a:rPr b="1" lang="en-US" sz="3600" spc="-1" strike="noStrike">
                <a:solidFill>
                  <a:srgbClr val="00ff00"/>
                </a:solidFill>
                <a:latin typeface="Verdana"/>
              </a:rPr>
              <a:t> Simplifications</a:t>
            </a: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7320" y="1066320"/>
            <a:ext cx="93279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46160" indent="-60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rop the cash flow statement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ll leases operating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ll pension plans defined contribution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ompleted contract only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ewer provisions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on-recognition of share-based payment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on-recognition of deferred taxes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ost model for all agriculture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o consolidation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502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Verdana"/>
              </a:rPr>
              <a:t>The Effort:  Due Process</a:t>
            </a:r>
            <a:endParaRPr b="1" lang="en-US" sz="32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2920" y="914400"/>
            <a:ext cx="924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Discussion paper on approach.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833400" indent="-396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June 2004.  120 comments received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Recognition and measurement (R&amp;M) questionnaire.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833400" indent="-396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pril 2005.   101 responses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Public roundtables on R&amp;M. 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833400" indent="-396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ctober 2005.  45 participants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Working Group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833400" indent="-396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ree meeting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33400" indent="-396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January 2006 discussed draft ED two days.  84 recommendations to Board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502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Verdana"/>
              </a:rPr>
              <a:t>The Effort:  Due Process</a:t>
            </a:r>
            <a:endParaRPr b="1" lang="en-US" sz="32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2920" y="914400"/>
            <a:ext cx="924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Discussed with World Standard Setters: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833400" indent="-3967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004, 2005, 2006.  Feedback sessions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Discussed with SAC: 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833400" indent="-3967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001, 2003, 2004, 2005, 2006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Board deliberations–public meetings: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833400" indent="-3967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003 – 4 meeting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33400" indent="-3967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004 – 9 meeting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33400" indent="-3967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005 – 7 meeting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833400" indent="-3967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006 – 7 meetings (so far)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502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Verdana"/>
              </a:rPr>
              <a:t>The Result: Draft Exposure Draft</a:t>
            </a:r>
            <a:endParaRPr b="1" lang="en-US" sz="32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0240" y="914040"/>
            <a:ext cx="88329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he draft ED now: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lvl="1" marL="833400" indent="-396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bout 220 pag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254240" indent="-262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Full IFRSs now 2,400 pages.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833400" indent="-396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rganised by topic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833400" indent="-396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40 section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833400" indent="-396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veloped by considering needs of a company with about 50 employe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833400" indent="-396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odel financial state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833400" indent="-396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sclosure checklis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502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Verdana"/>
              </a:rPr>
              <a:t>The Result: Draft Exposure Draft</a:t>
            </a:r>
            <a:endParaRPr b="1" lang="en-US" sz="32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60240" y="914040"/>
            <a:ext cx="88329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2200" indent="-32220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Very close to issuance.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Draft posted on IASB website in early August 2006 to: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lvl="1" marL="833400" indent="-39672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timulate early thinking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833400" indent="-39672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llay concerns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ASB will likely publish translations of ED in Spanish and possibly French as well.  A first!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5120" y="228600"/>
            <a:ext cx="8502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Verdana"/>
              </a:rPr>
              <a:t>SME Concern: “Maintenance”</a:t>
            </a:r>
            <a:endParaRPr b="1" lang="en-US" sz="32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7440" y="13716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SMEs are worried about frequent updating of IFRS for SMEs: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Board decision: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lvl="1" marL="833400" indent="-39672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Update the IFRS for SMEs every 2 years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833400" indent="-39672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mnibus Exposure Draft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Verdana"/>
              </a:rPr>
              <a:t>Next Steps</a:t>
            </a: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25480" y="914040"/>
            <a:ext cx="8750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entative dates: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marL="347760" indent="-34776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posure Draft – Q4  2006.  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lvl="1" marL="1592280" indent="-39672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ix month comment period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1592280" indent="-39672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nslation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7760" indent="-34776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Field tests and/or visits to SMEs?  Roundtables?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marL="347760" indent="-34776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Final Standard – 2007.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marL="347760" indent="-34776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ffective – 2008 or 2009.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667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Verdana"/>
              </a:rPr>
              <a:t>Why SME Standards Are Needed</a:t>
            </a:r>
            <a:endParaRPr b="1" lang="en-US" sz="32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320" y="914400"/>
            <a:ext cx="94107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450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Benefits of global accounting standards for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Verdana"/>
              </a:rPr>
              <a:t>listed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companies are obvious in globalised financial markets.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536400" indent="-450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Even for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Verdana"/>
              </a:rPr>
              <a:t>unlisted SMEs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, financial statements that are understandable across borders are needed:</a:t>
            </a:r>
            <a:endParaRPr b="1" lang="en-US" sz="2800" spc="-1" strike="noStrike">
              <a:solidFill>
                <a:srgbClr val="ffff00"/>
              </a:solidFill>
              <a:latin typeface="Verdana"/>
            </a:endParaRPr>
          </a:p>
          <a:p>
            <a:pPr lvl="1" marL="976320" indent="-325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Banks make loans across borders and operate multi-nationally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76320" indent="-325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Vendors from other countries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76320" indent="-325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redit rating agencies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76320" indent="-325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verseas customers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76320" indent="-325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reign venture capital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Verdana"/>
              </a:rPr>
              <a:t>Questions for WSS Discussion</a:t>
            </a: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5480" y="914040"/>
            <a:ext cx="8750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How to get comments on ED from SMEs?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How to get comments on ED from users (lenders, rating agencies, venture capital)?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How can jurisdictions help in field tests/field visits?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ocal or regional round tables?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Other questions you may have?</a:t>
            </a: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55310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22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Verdana"/>
              </a:rPr>
              <a:t>Discussion time – your turn!</a:t>
            </a:r>
            <a:endParaRPr b="1" lang="en-US" sz="54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984400" cy="5943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77800" y="3352680"/>
            <a:ext cx="5448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18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XPRESSIONS OF INDIVIDUAL VIEWS BY MEMBERS OF THE IASB AND ITS STAFF ARE ENCOURAGED.  THE VIEWS EXPRESSED IN THIS PRESENTATION ARE THOSE OF G. GELARD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OFFICIAL POSITIONS OF THE IASB ON ACCOUNTING MATTERS ARE DETERMINED ONLY AFTER EXTENSIVE DUE PROCESS AND DELIBER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480" y="-11160"/>
            <a:ext cx="8610840" cy="6824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3520" y="1828800"/>
            <a:ext cx="8648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IFRS for Small and Medium-sized Entiti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47920" cy="1324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667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Verdana"/>
              </a:rPr>
              <a:t>Why SME Standards Are Needed</a:t>
            </a:r>
            <a:endParaRPr b="1" lang="en-US" sz="32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7680" y="838080"/>
            <a:ext cx="924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45072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wo edged-sword for SMEs: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976320" indent="-3254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Good accounting and more disclosu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add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to SME burdens, not reduce them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76320" indent="-3254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MEs often see greater transparency as ‘competitively harmful’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76320" indent="-3254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t the same time, good accounting and disclosure give investor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confidence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to provide capital.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6400" indent="-45072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Solution: Tailor requirements for SMEs.  This is what the IASB SME project is all about.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667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Verdana"/>
              </a:rPr>
              <a:t>IASB Definition of SME</a:t>
            </a:r>
            <a:endParaRPr b="1" lang="en-US" sz="32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9327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ASB tentative view: 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606600" indent="-208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FRS for SMEs is appropriate for an entity with no public accountability: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17440" indent="-27936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not publicly traded; and 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117440" indent="-27936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not a financial institution.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606600" indent="-208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 entity whose securities are publicly traded h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public accountability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17440" indent="-27936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Need full IFRSs for investor protection – even for small listed.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Verdana"/>
              </a:rPr>
              <a:t>IASB Approach</a:t>
            </a: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360" y="914400"/>
            <a:ext cx="8997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630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ocus on non-publicly accountable entities that publish general purpose financial statements for external users, including: 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598760" indent="-4860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Non-manager owners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598760" indent="-4860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isting and potential lenders and creditors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598760" indent="-4860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redit rating agencies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914400" indent="-630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ocus on typical SME with about 50 employees in deciding the content of the IFRS for SMEs.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Verdana"/>
              </a:rPr>
              <a:t>IASB Approach</a:t>
            </a: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2560" y="1066320"/>
            <a:ext cx="8584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46160" indent="-609480">
              <a:spcBef>
                <a:spcPts val="799"/>
              </a:spcBef>
              <a:buClr>
                <a:srgbClr val="ffffff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o quantified “size test”. Each jurisdiction should develop detailed guidelines on which entities are eligible to use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99"/>
              </a:spcBef>
              <a:buClr>
                <a:srgbClr val="ffffff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tand-alone document as much as possible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1046160" indent="-609480">
              <a:spcBef>
                <a:spcPts val="799"/>
              </a:spcBef>
              <a:buClr>
                <a:srgbClr val="ffffff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ramework concepts and pervasive principles added, to minimise need for fallback to full IFRSs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Verdana"/>
              </a:rPr>
              <a:t>IASB Approach</a:t>
            </a: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837720"/>
            <a:ext cx="91630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4572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terial not relevant to typical SME omitted, with cross-references to IFRS if needed.  Examples: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249200" indent="-4572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Hyperinflation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249200" indent="-4572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quity-settled share-based payment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249200" indent="-4572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griculture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249200" indent="-4572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ractive industries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249200" indent="-4572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rim reporting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249200" indent="-4572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essor finance leases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249200" indent="-4572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Recoverable amount of goodwill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Verdana"/>
              </a:rPr>
              <a:t>IASB Approach</a:t>
            </a: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2920" y="914400"/>
            <a:ext cx="9162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46160" indent="-609480">
              <a:spcBef>
                <a:spcPts val="901"/>
              </a:spcBef>
              <a:buClr>
                <a:srgbClr val="ffffff"/>
              </a:buClr>
              <a:buFont typeface="Verdana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Only simpler of options in full IFRS are included. Other(s) cross-referenced.  So, only: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2" marL="1601640" indent="-6094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st for investment property.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601640" indent="-6094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st for PP&amp;E and intangibles.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601640" indent="-6094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pense all borrowing cost.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601640" indent="-6094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direct operating cash flows.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601640" indent="-6094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One method for all grants.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d37"/>
            </a:gs>
            <a:gs pos="100000">
              <a:srgbClr val="1c40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5120" y="2282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Verdana"/>
              </a:rPr>
              <a:t>IASB Approach</a:t>
            </a:r>
            <a:endParaRPr b="1" lang="en-US" sz="3600" spc="-1" strike="noStrike">
              <a:solidFill>
                <a:srgbClr val="00ff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7320" y="837720"/>
            <a:ext cx="93279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53920" indent="-5047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cognition and measurement simplifications, page 1 of 2: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308240" indent="-3398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Arial Unicode MS"/>
              </a:rPr>
              <a:t>Financial instruments: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3" marL="195588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Arial Unicode MS"/>
              </a:rPr>
              <a:t>Two classifications, not fo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95588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Arial Unicode MS"/>
              </a:rPr>
              <a:t>Drop “continuing involvement approach” for derecogn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95588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Arial Unicode MS"/>
              </a:rPr>
              <a:t>Much simplified hedge accoun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08240" indent="-3398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Arial Unicode MS"/>
              </a:rPr>
              <a:t>Goodwill impairment – indicator approach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308240" indent="-3398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Arial Unicode MS"/>
              </a:rPr>
              <a:t>Expense all R&amp;D 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308240" indent="-3398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Arial Unicode MS"/>
              </a:rPr>
              <a:t>Cost method for associates and JVs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308240" indent="-3398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Arial Unicode MS"/>
              </a:rPr>
              <a:t>Income taxes – timing difference method</a:t>
            </a:r>
            <a:endParaRPr b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31T20:00:26Z</dcterms:created>
  <dc:creator>Hugh Harrison (Open)
</dc:creator>
  <dc:description/>
  <dc:language>en-US</dc:language>
  <cp:lastModifiedBy>cristina stacchini</cp:lastModifiedBy>
  <cp:lastPrinted>2001-02-21T16:18:07Z</cp:lastPrinted>
  <dcterms:modified xsi:type="dcterms:W3CDTF">2006-10-03T14:21:30Z</dcterms:modified>
  <cp:revision>482</cp:revision>
  <dc:subject/>
  <dc:title>No Slide Title</dc:title>
</cp:coreProperties>
</file>