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704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2160" y="94932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192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704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2160" y="3536280"/>
            <a:ext cx="2671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53628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949320"/>
            <a:ext cx="404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536280"/>
            <a:ext cx="829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21920" y="949320"/>
            <a:ext cx="8296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25"/>
              </a:spcBef>
              <a:buClr>
                <a:srgbClr val="00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34308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1125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76320" y="6456240"/>
          <a:ext cx="152388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6456240"/>
                    <a:ext cx="152388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8475120" y="6496200"/>
            <a:ext cx="980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D5AD-21ED-4DC0-8207-66FDDA28928D}" type="slidenum">
              <a:rPr b="1" lang="it-IT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4640" y="2448000"/>
            <a:ext cx="54882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20640"/>
            <a:ext cx="808992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2662200"/>
            <a:ext cx="7418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Utilizzo del fair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  <a:ea typeface="Arial"/>
              </a:rPr>
              <a:t> e sue implicazioni pratiche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9000" y="3733920"/>
            <a:ext cx="7848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Direttore Generale Gruppo Pirel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vegno OIC – 6 Ottobr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5040" y="3527280"/>
            <a:ext cx="3938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laudio De C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3800" y="3724200"/>
            <a:ext cx="3530520" cy="113040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nell’applicazione degli IFRS a reg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06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92680" y="3713040"/>
            <a:ext cx="3746520" cy="118116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l momento della transizione agli IF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09480"/>
            <a:ext cx="5410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960" y="1727280"/>
            <a:ext cx="7683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Gli IFRS impongono / consentono l’uso del fair value nelle valutazioni delle poste di bilanci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176200">
            <a:off x="2336400" y="2793240"/>
            <a:ext cx="558720" cy="304920"/>
          </a:xfrm>
          <a:prstGeom prst="rightArrow">
            <a:avLst>
              <a:gd name="adj1" fmla="val 50000"/>
              <a:gd name="adj2" fmla="val 4580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653800">
            <a:off x="5665320" y="2770200"/>
            <a:ext cx="559080" cy="30492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1960" y="3546360"/>
            <a:ext cx="3530520" cy="284508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usiness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sal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ssets/liabilities at fair value through profit or loss 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. derivati, tit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d for trad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asset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B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3120"/>
            <a:ext cx="8369280" cy="89244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93000"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nell’applicazione degli IFRS a reg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4200" y="3160800"/>
            <a:ext cx="205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OBBLIGA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36440" y="3251160"/>
            <a:ext cx="1895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Arial"/>
              </a:rPr>
              <a:t>FACOLTA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2680" y="3713040"/>
            <a:ext cx="3746520" cy="2374920"/>
          </a:xfrm>
          <a:prstGeom prst="rect">
            <a:avLst/>
          </a:prstGeom>
          <a:solidFill>
            <a:srgbClr val="ffffff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, Plant and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angible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estimenti Immobi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’impairment test come possibile configurazione del valore recuper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In sede di transizione agli IFRS, in aggiunta a quanto già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evidenziato prima, IFRS fanno riferimento al fair value nei seguenti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Arial"/>
              </a:rPr>
              <a:t>principali casi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e business combination 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ssate possono non essere riaperte, evitando così la complessità della rideterminazione del fair value di operazioni passat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si può scegliere di valutare le immobilizzazioni materiali al fair value e utilizzare tale valore come sostituto del costo alla data di transi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</a:t>
            </a: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Il fair value alla data di transi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165240" y="171432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944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Modalità di determinazione del fair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9960" y="2389320"/>
            <a:ext cx="568080" cy="349200"/>
          </a:xfrm>
          <a:prstGeom prst="rightArrow">
            <a:avLst>
              <a:gd name="adj1" fmla="val 50000"/>
              <a:gd name="adj2" fmla="val 406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3600" y="3621240"/>
            <a:ext cx="576360" cy="365040"/>
          </a:xfrm>
          <a:prstGeom prst="rightArrow">
            <a:avLst>
              <a:gd name="adj1" fmla="val 50000"/>
              <a:gd name="adj2" fmla="val 3947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2171880"/>
            <a:ext cx="665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In presenza di un mercato attivo =&gt; quotazioni di mercato uffi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92160" y="3645000"/>
            <a:ext cx="67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a41"/>
                </a:solidFill>
                <a:latin typeface="Arial"/>
              </a:rPr>
              <a:t>Se mercato non è attivo =&gt; tecniche di valu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5120" y="4102200"/>
            <a:ext cx="167616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73520" y="4140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51560" y="4114800"/>
            <a:ext cx="109224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501660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Multipli delle transazioni e delle società compara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440" y="4952880"/>
            <a:ext cx="2247840" cy="9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48040" y="5092560"/>
            <a:ext cx="16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Discounted cash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87720" y="4927680"/>
            <a:ext cx="143532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62640" y="516888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25a4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25a41"/>
                </a:solidFill>
                <a:latin typeface="Arial"/>
              </a:rPr>
              <a:t>Option pricing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51560" y="4991040"/>
            <a:ext cx="2108160" cy="7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65240" y="1193760"/>
            <a:ext cx="8623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artecipazioni quotate (non controllate o collegate) adeguate ai valori di Bors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 piani di stock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ptio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devono essere valutati a fair value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Il valore di mercato degli investimenti in titoli dei fondi pensione deve essere riconosciuto in bilancio (se si tratta di “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efined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 benefit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plans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”)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utti i derivati devono essere valutati a fair valu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equity se in “hedge accounting”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conto economico</a:t>
            </a: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 se “hedge accounting” non è </a:t>
            </a: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dottato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Tipologie di derivat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Acquisti / vendite di valuta a termin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Interest rate swap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00"/>
                </a:solidFill>
                <a:latin typeface="Arial"/>
              </a:rPr>
              <a:t>Opzioni su titoli / valute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876"/>
              </a:spcBef>
              <a:spcAft>
                <a:spcPts val="524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Arial"/>
              </a:rPr>
              <a:t>Futures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792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Fair value: esempi di applicazioni prat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165240" y="1460160"/>
            <a:ext cx="86234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L’utilizzo del fair value migliora la comparabilità e aumenta la rilevanza dell’in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Potenziale aumento della volatilità dei risult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ecessario dotarsi di strumenti di valutazione adeguati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Nuove competenze richieste al redattore del bilancio IFRS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=&gt; formazion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spcAft>
                <a:spcPts val="675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00"/>
                </a:solidFill>
                <a:latin typeface="Arial"/>
              </a:rPr>
              <a:t>Gli stessi IFRS tuttavia ne limitano l’utilizzo se di difficile applicazione. Esempi: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intangibles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=&gt; solo in presenza di un mercato attiv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raro</a:t>
            </a: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spcAft>
                <a:spcPts val="601"/>
              </a:spcAft>
              <a:buClr>
                <a:srgbClr val="00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Per 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partecipazioni non quotate =&gt; solo se la variabilità del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range</a:t>
            </a:r>
            <a:r>
              <a:rPr b="0" lang="it-IT" sz="1600" spc="-1" strike="noStrike">
                <a:solidFill>
                  <a:srgbClr val="003300"/>
                </a:solidFill>
                <a:latin typeface="Arial"/>
              </a:rPr>
              <a:t> di stima del fair value non è significativo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12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6080"/>
            <a:ext cx="8369280" cy="892080"/>
          </a:xfrm>
          <a:prstGeom prst="rect">
            <a:avLst/>
          </a:prstGeom>
          <a:solidFill>
            <a:srgbClr val="ff00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Conclus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8:56:29Z</dcterms:created>
  <dc:creator>Enrico Maria Pugliese</dc:creator>
  <dc:description/>
  <dc:language>en-US</dc:language>
  <cp:lastModifiedBy>cristina stacchini</cp:lastModifiedBy>
  <cp:lastPrinted>2001-10-29T15:31:31Z</cp:lastPrinted>
  <dcterms:modified xsi:type="dcterms:W3CDTF">2006-10-05T14:19:51Z</dcterms:modified>
  <cp:revision>1342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7157566</vt:r8>
  </property>
  <property fmtid="{D5CDD505-2E9C-101B-9397-08002B2CF9AE}" pid="3" name="_AuthorEmail">
    <vt:lpwstr>chiara.bontempelli@pirelli.com</vt:lpwstr>
  </property>
  <property fmtid="{D5CDD505-2E9C-101B-9397-08002B2CF9AE}" pid="4" name="_AuthorEmailDisplayName">
    <vt:lpwstr>Bontempelli Chiara, IT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1429536599</vt:r8>
  </property>
  <property fmtid="{D5CDD505-2E9C-101B-9397-08002B2CF9AE}" pid="8" name="_ReviewingToolsShownOnce">
    <vt:lpwstr/>
  </property>
</Properties>
</file>