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720263" cy="719613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6971F-94BA-4438-861C-94D7E0CB66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28280" y="2079720"/>
            <a:ext cx="826308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28280" y="4334400"/>
            <a:ext cx="826308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6E6A1-07CA-4037-9C68-DA7B2B08FC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8280" y="207972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2600" y="207972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28280" y="433440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2600" y="433440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D1061-4F71-4394-B7A7-F56EEF8D63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28280" y="2079720"/>
            <a:ext cx="266040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2240" y="2079720"/>
            <a:ext cx="266040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5840" y="2079720"/>
            <a:ext cx="266040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28280" y="4334400"/>
            <a:ext cx="266040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2240" y="4334400"/>
            <a:ext cx="266040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5840" y="4334400"/>
            <a:ext cx="266040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50D53-8195-4CC7-8206-AEE9291CDB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28280" y="2079720"/>
            <a:ext cx="82630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174A2-4A06-4930-AF36-4F16433D61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28280" y="2079720"/>
            <a:ext cx="826308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CC474-1F52-4EFC-93B6-22C9DE219F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8280" y="2079720"/>
            <a:ext cx="40323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2600" y="2079720"/>
            <a:ext cx="40323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F310D-5FE0-4A15-A508-53510E97C6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8D018-F826-468C-90C6-6D2E50B3DC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8280" y="639720"/>
            <a:ext cx="8263080" cy="55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A68F3-C8F5-4D31-804B-30F906E30F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8280" y="207972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2600" y="2079720"/>
            <a:ext cx="40323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28280" y="433440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050E9-6813-49A6-80E2-27F7434211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8280" y="2079720"/>
            <a:ext cx="40323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2600" y="207972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2600" y="433440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DEF2C-F626-4BD5-AB2B-88848D939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8280" y="207972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2600" y="207972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28280" y="4334400"/>
            <a:ext cx="826308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22210-3CCB-49BD-A5EB-ED272AE161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8280" y="2079720"/>
            <a:ext cx="826308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 fontScale="98000"/>
          </a:bodyPr>
          <a:p>
            <a:pPr marL="354240" indent="-354240">
              <a:spcBef>
                <a:spcPts val="850"/>
              </a:spcBef>
              <a:buClr>
                <a:srgbClr val="000000"/>
              </a:buClr>
              <a:buFont typeface="Times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8240" indent="-295200">
              <a:spcBef>
                <a:spcPts val="850"/>
              </a:spcBef>
              <a:buClr>
                <a:srgbClr val="000000"/>
              </a:buClr>
              <a:buFont typeface="Times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3680" indent="-237960">
              <a:spcBef>
                <a:spcPts val="850"/>
              </a:spcBef>
              <a:buClr>
                <a:srgbClr val="000000"/>
              </a:buClr>
              <a:buFont typeface="Times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58160" indent="-236520">
              <a:spcBef>
                <a:spcPts val="850"/>
              </a:spcBef>
              <a:buClr>
                <a:srgbClr val="000000"/>
              </a:buClr>
              <a:buFont typeface="Times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31200" indent="-236160">
              <a:spcBef>
                <a:spcPts val="850"/>
              </a:spcBef>
              <a:buClr>
                <a:srgbClr val="000000"/>
              </a:buClr>
              <a:buFont typeface="Times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31200" indent="-236160">
              <a:spcBef>
                <a:spcPts val="850"/>
              </a:spcBef>
              <a:buClr>
                <a:srgbClr val="000000"/>
              </a:buClr>
              <a:buFont typeface="Times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31200" indent="-236160">
              <a:spcBef>
                <a:spcPts val="850"/>
              </a:spcBef>
              <a:buClr>
                <a:srgbClr val="000000"/>
              </a:buClr>
              <a:buFont typeface="Times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2986200" y="6454800"/>
            <a:ext cx="20253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it-IT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D12FA69-0794-464A-BD8B-264DBD65CAA9}" type="slidenum">
              <a:rPr b="0" lang="it-IT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304920" y="6777000"/>
          <a:ext cx="152388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6777000"/>
                    <a:ext cx="152388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905120" y="6781680"/>
            <a:ext cx="193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5 UBM-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00" y="3205080"/>
            <a:ext cx="92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5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3268800"/>
            <a:ext cx="441936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IFRS for S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Strumenti finanzi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64008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4648320"/>
            <a:ext cx="4237200" cy="11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Roberto Monach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6 Ottobre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6141960"/>
            <a:ext cx="541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Il presente documento integra un’illustrazione orale degli argomenti in esso contenuti; non può essere pertanto considerato esaustivo senza le informazioni e i commenti che lo accompagnan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6396C-81A7-4C60-B653-808E4DD41E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733920" y="1600200"/>
            <a:ext cx="2430360" cy="639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alore di carico del credito o del portafoglio di credi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0" y="1600200"/>
            <a:ext cx="2428920" cy="639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sunto valore di recup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1600200"/>
            <a:ext cx="2268720" cy="639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erdita durevole di val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1785960"/>
            <a:ext cx="5666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1785960"/>
            <a:ext cx="5666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3017880"/>
            <a:ext cx="1752480" cy="639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sunto valore di recup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3017880"/>
            <a:ext cx="2590920" cy="63972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ività valutate al costo ammortizza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ar. 12.2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72200" y="3048120"/>
            <a:ext cx="3200400" cy="533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lore attuale dei futuri flussi di cassa al TIR origin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57800" y="312408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4008600"/>
            <a:ext cx="1752480" cy="639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sunto valore di recup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4008600"/>
            <a:ext cx="2590920" cy="63972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ività valutate al co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ar. 12.2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4038480"/>
            <a:ext cx="3200400" cy="533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glior stima del fair value dell’attiv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57800" y="411480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5181480"/>
            <a:ext cx="9068040" cy="1219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uccessivamente all’iscrizione di impairment è possibile rilevare riprese di valore qualora questa possa essere correlata ad eventi avvenuti successivamente la rilevazione della perdita durevole di valore (par. 12.2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 riprese di valore devono essere rilevate a conto economico anche quando relative a strumenti di equity oggetto di valutazione al c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Tale possibilità  è esclusa dall’attuale IAS 3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72440" y="228600"/>
            <a:ext cx="14043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Impair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CCC35-63B9-4BD5-948E-0EE22773C4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3920" y="1270080"/>
            <a:ext cx="9300960" cy="48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a derecognition di </a:t>
            </a: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attività finanziarie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è possibile qualora risultino soddisfatte le seguenti condizioni (par. 12.2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1969920"/>
            <a:ext cx="838224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I diritti contrattuali a ricevere i cash flows dell’attività scadono oppure sono regola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9051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655720"/>
            <a:ext cx="838224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’impresa trasferisce tutti i </a:t>
            </a:r>
            <a:r>
              <a:rPr b="0" i="1" lang="it-IT" sz="1400" spc="-1" strike="noStrike">
                <a:solidFill>
                  <a:srgbClr val="000000"/>
                </a:solidFill>
                <a:latin typeface="Verdana"/>
              </a:rPr>
              <a:t>risk and rewards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ignificativi dell’attiv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25909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3341520"/>
            <a:ext cx="838224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’impresa mantiene parte dei </a:t>
            </a:r>
            <a:r>
              <a:rPr b="0" i="1" lang="it-IT" sz="1400" spc="-1" strike="noStrike">
                <a:solidFill>
                  <a:srgbClr val="000000"/>
                </a:solidFill>
                <a:latin typeface="Verdana"/>
              </a:rPr>
              <a:t>risk and rewards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ignificativi dell’attività ma cede il controllo 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(inteso come possibilità di cedere l’attività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32767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4038480"/>
            <a:ext cx="8991720" cy="1295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Qualora la cessione non presenti le caratteristiche per effettuare la derecognition è necessari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mantenere l’attività ceduta nell’attivo di stato patrimoni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rilevare una passività per l’importo ricevu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320" y="5638680"/>
            <a:ext cx="1447560" cy="63972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ssività finanziar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 12.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5638680"/>
            <a:ext cx="8043840" cy="639720"/>
          </a:xfrm>
          <a:custGeom>
            <a:avLst/>
            <a:gdLst>
              <a:gd name="textAreaLeft" fmla="*/ 0 w 8043840"/>
              <a:gd name="textAreaRight" fmla="*/ 8043840 w 804384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e passività finanziarie devono essere cancellate dal bilancio all’estin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ezione 12 non prevede l’obbligo di derecogntion di passività in caso di loro riacqui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83240" y="228600"/>
            <a:ext cx="162252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De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B4DB9-4F37-46C9-BB21-6E4C2E5A67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3920" y="1219320"/>
            <a:ext cx="9300960" cy="48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’hedge accounting, consentito dalla sezione 12, rappresenta una versione più semplificata ma più “regolamentata” di quello previsto da IAS 3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62080" y="2619360"/>
            <a:ext cx="7391520" cy="366840"/>
          </a:xfrm>
          <a:custGeom>
            <a:avLst/>
            <a:gdLst>
              <a:gd name="textAreaLeft" fmla="*/ 0 w 7391520"/>
              <a:gd name="textAreaRight" fmla="*/ 7391880 w 739152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hio tasso di strumenti a tasso fisso e variabile  valutati al costo ammortizz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62080" y="4276800"/>
            <a:ext cx="7391520" cy="366480"/>
          </a:xfrm>
          <a:custGeom>
            <a:avLst/>
            <a:gdLst>
              <a:gd name="textAreaLeft" fmla="*/ 0 w 7391520"/>
              <a:gd name="textAreaRight" fmla="*/ 7391880 w 7391520"/>
              <a:gd name="textAreaTop" fmla="*/ 0 h 366480"/>
              <a:gd name="textAreaBottom" fmla="*/ 366840 h 36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ischio prezzo di commodity detenu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62080" y="3448080"/>
            <a:ext cx="7391520" cy="366840"/>
          </a:xfrm>
          <a:custGeom>
            <a:avLst/>
            <a:gdLst>
              <a:gd name="textAreaLeft" fmla="*/ 0 w 7391520"/>
              <a:gd name="textAreaRight" fmla="*/ 7391880 w 739152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hio cambio di impegni o di una transazione futura molto proba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62080" y="5105520"/>
            <a:ext cx="7391520" cy="512640"/>
          </a:xfrm>
          <a:custGeom>
            <a:avLst/>
            <a:gdLst>
              <a:gd name="textAreaLeft" fmla="*/ 0 w 7391520"/>
              <a:gd name="textAreaRight" fmla="*/ 7391880 w 739152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ischio prezzo di impegni o di transazioni previste future ad acquistare una commod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62080" y="6081840"/>
            <a:ext cx="7391520" cy="318960"/>
          </a:xfrm>
          <a:custGeom>
            <a:avLst/>
            <a:gdLst>
              <a:gd name="textAreaLeft" fmla="*/ 0 w 7391520"/>
              <a:gd name="textAreaRight" fmla="*/ 7391880 w 7391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hio cambio di un investimento in un’attività est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1828800"/>
            <a:ext cx="8839080" cy="457200"/>
          </a:xfrm>
          <a:custGeom>
            <a:avLst/>
            <a:gdLst>
              <a:gd name="textAreaLeft" fmla="*/ 0 w 8839080"/>
              <a:gd name="textAreaRight" fmla="*/ 8839440 w 88390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zione 12 definisce nel dettaglio i rischi “copribili” e le tipologie di copertura ad essi applicabili (par. 12.2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09160" y="228600"/>
            <a:ext cx="20170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Hedge accou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3713C-6D65-462D-8891-814421EAEA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3920" y="1219320"/>
            <a:ext cx="9300960" cy="48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’applicazione dell’hedge accounting è subordinata alle seguenti condizioni (par.12.28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1969920"/>
            <a:ext cx="838224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’impresa designa e documenta la relazione di copertura in modo che lo strumento coperto, il derivato di copertura e il rischio coperto siano ben identifica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19051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884320"/>
            <a:ext cx="838224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 rischio coperto è uno dei rischi citati nella slide preced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28195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3646440"/>
            <a:ext cx="8382240" cy="69696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i prevede che le variazioni nel fair value o nei cash flows dello strumento coperto attribuibili al rischio coperto siano “almost fully offset” dalle variazioni nel fair value o nei cash flows del derivato di cop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37339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4648320"/>
            <a:ext cx="8839440" cy="609480"/>
          </a:xfrm>
          <a:custGeom>
            <a:avLst/>
            <a:gdLst>
              <a:gd name="textAreaLeft" fmla="*/ 0 w 8839440"/>
              <a:gd name="textAreaRight" fmla="*/ 8839800 w 88394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Per dimostrare il requisito di “almost fully offset” (efficacia) non ci si basa su test di efficacia ma sull’analisi delle caratteristiche dello strumento di copertura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5715000"/>
            <a:ext cx="8839440" cy="609480"/>
          </a:xfrm>
          <a:custGeom>
            <a:avLst/>
            <a:gdLst>
              <a:gd name="textAreaLeft" fmla="*/ 0 w 8839440"/>
              <a:gd name="textAreaRight" fmla="*/ 8839800 w 88394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e caratteristiche dello strumento di copertura devono rispecchiare il più possibile quelle dello strumento coper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5300640"/>
            <a:ext cx="762120" cy="3808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09160" y="228600"/>
            <a:ext cx="20170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Hedge accou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DEFE1-EBB2-4F03-8156-600F4EABDA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04920" y="1371600"/>
            <a:ext cx="9219960" cy="609480"/>
          </a:xfrm>
          <a:custGeom>
            <a:avLst/>
            <a:gdLst>
              <a:gd name="textAreaLeft" fmla="*/ 0 w 9219960"/>
              <a:gd name="textAreaRight" fmla="*/ 9220320 w 92199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il requisito di “almost fully offset” è rispettato se il derivato di copertura presenta le seguenti condizioni (par.12.30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2286000"/>
            <a:ext cx="8458200" cy="99072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Il contratto è u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Interest rate swap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Foreign currency swap/forward indicizzato alla medesima valuta di denominazione della posta copert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Forward indicizzato a una commodity con le medesime caratteristiche della commodity coper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25909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3549600"/>
            <a:ext cx="8458200" cy="38088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 nozionale del derivato di copertura è pari al valore nominale oggetto di copertura della posta coper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35053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4159080"/>
            <a:ext cx="845820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Ha una scadenza non superiore a quella dello strumento coperto e non prevede clausole di prepayment, estinzione anticipata o di estensione della du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41148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844880"/>
            <a:ext cx="845820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 un fair value pari a zero all’iscrizione iniz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4800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5454720"/>
            <a:ext cx="8458200" cy="38088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n prevede clausole di regolamento dipendente da eventi futuri non associati al rischio cope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54100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6064200"/>
            <a:ext cx="8458200" cy="38088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Non presenta particolari condizioni che possono invalidare l’aspettativa di “Almost Fully Offse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60199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09160" y="228600"/>
            <a:ext cx="20170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Hedge accou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1C3F9-2E11-4306-A54B-1EB8847474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04920" y="1371600"/>
            <a:ext cx="9219960" cy="380880"/>
          </a:xfrm>
          <a:custGeom>
            <a:avLst/>
            <a:gdLst>
              <a:gd name="textAreaLeft" fmla="*/ 0 w 9219960"/>
              <a:gd name="textAreaRight" fmla="*/ 9220320 w 92199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 lo strumento di copertura è un IRS sono inoltre necessarie le seguenti condizioni (par. 12.31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2406600"/>
            <a:ext cx="8458200" cy="38088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Presenta un </a:t>
            </a: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tasso fisso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costante lungo l’intera vita dello sw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23623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5302080"/>
            <a:ext cx="8458200" cy="64152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Presenta repricing dates che corrispondono al </a:t>
            </a:r>
            <a:r>
              <a:rPr b="0" i="1" lang="it-IT" sz="1200" spc="-1" strike="noStrike">
                <a:solidFill>
                  <a:srgbClr val="000000"/>
                </a:solidFill>
                <a:latin typeface="Verdana"/>
              </a:rPr>
              <a:t>timing 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degli interessi e delle repricing date dello strumento cope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5257800"/>
            <a:ext cx="457200" cy="770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3124080"/>
            <a:ext cx="8153280" cy="6098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Per le coperture di strumenti a tasso variabil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senta il medesimo tasso variabile dell’attività/passività coper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4038480"/>
            <a:ext cx="8153280" cy="6098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Per le coperture di strumenti a tasso fisso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senta un tasso variabile quotato sul mercato e basato sul medesimo indice lungo la sua intera v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048120"/>
            <a:ext cx="381240" cy="1676160"/>
          </a:xfrm>
          <a:custGeom>
            <a:avLst/>
            <a:gdLst>
              <a:gd name="textAreaLeft" fmla="*/ 243720 w 381240"/>
              <a:gd name="textAreaRight" fmla="*/ 381600 w 38124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09160" y="228600"/>
            <a:ext cx="20170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Hedge accou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B98FA-868A-42F9-9985-8F652CD336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0880" y="2209680"/>
            <a:ext cx="4038840" cy="366840"/>
          </a:xfrm>
          <a:custGeom>
            <a:avLst/>
            <a:gdLst>
              <a:gd name="textAreaLeft" fmla="*/ 0 w 4038840"/>
              <a:gd name="textAreaRight" fmla="*/ 4039200 w 403884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29" y="0"/>
                </a:lnTo>
                <a:lnTo>
                  <a:pt x="21600" y="10800"/>
                </a:lnTo>
                <a:lnTo>
                  <a:pt x="20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hio tasso di strumenti a tasso fisso valutati al costo ammortizz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1600200"/>
            <a:ext cx="4038840" cy="366840"/>
          </a:xfrm>
          <a:custGeom>
            <a:avLst/>
            <a:gdLst>
              <a:gd name="textAreaLeft" fmla="*/ 0 w 4038840"/>
              <a:gd name="textAreaRight" fmla="*/ 4039200 w 403884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51" y="0"/>
                </a:lnTo>
                <a:lnTo>
                  <a:pt x="21600" y="10800"/>
                </a:lnTo>
                <a:lnTo>
                  <a:pt x="2045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ischio prezzo di commodity detenu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3336840"/>
            <a:ext cx="4038840" cy="487440"/>
          </a:xfrm>
          <a:custGeom>
            <a:avLst/>
            <a:gdLst>
              <a:gd name="textAreaLeft" fmla="*/ 0 w 4038840"/>
              <a:gd name="textAreaRight" fmla="*/ 4039200 w 403884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8" y="0"/>
                </a:lnTo>
                <a:lnTo>
                  <a:pt x="21600" y="10800"/>
                </a:lnTo>
                <a:lnTo>
                  <a:pt x="203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hio tasso di strumenti a tasso variabile valutati al costo ammortizz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4724280"/>
            <a:ext cx="4038840" cy="366840"/>
          </a:xfrm>
          <a:custGeom>
            <a:avLst/>
            <a:gdLst>
              <a:gd name="textAreaLeft" fmla="*/ 0 w 4038840"/>
              <a:gd name="textAreaRight" fmla="*/ 4039200 w 403884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30" y="0"/>
                </a:lnTo>
                <a:lnTo>
                  <a:pt x="21600" y="10800"/>
                </a:lnTo>
                <a:lnTo>
                  <a:pt x="2063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hio cambio di impegni o di una transazione futura molto proba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5438880"/>
            <a:ext cx="4038840" cy="512640"/>
          </a:xfrm>
          <a:custGeom>
            <a:avLst/>
            <a:gdLst>
              <a:gd name="textAreaLeft" fmla="*/ 0 w 4038840"/>
              <a:gd name="textAreaRight" fmla="*/ 4039200 w 403884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30" y="0"/>
                </a:lnTo>
                <a:lnTo>
                  <a:pt x="21600" y="10800"/>
                </a:lnTo>
                <a:lnTo>
                  <a:pt x="2083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ischio prezzo di impegni o di transazioni previste future ad acquistare una commod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6157800"/>
            <a:ext cx="4038840" cy="319320"/>
          </a:xfrm>
          <a:custGeom>
            <a:avLst/>
            <a:gdLst>
              <a:gd name="textAreaLeft" fmla="*/ 0 w 4038840"/>
              <a:gd name="textAreaRight" fmla="*/ 4039200 w 4038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99" y="0"/>
                </a:lnTo>
                <a:lnTo>
                  <a:pt x="21600" y="10800"/>
                </a:lnTo>
                <a:lnTo>
                  <a:pt x="2089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hio cambio di un investimento in un’attività est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95680" y="1523880"/>
            <a:ext cx="5029200" cy="1067040"/>
          </a:xfrm>
          <a:custGeom>
            <a:avLst/>
            <a:gdLst>
              <a:gd name="textAreaLeft" fmla="*/ 0 w 5029200"/>
              <a:gd name="textAreaRight" fmla="*/ 5029560 w 502920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 strumento di copertura è valutato al fair value con iscrizione delle differenze a conto econom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 valore dello strumento coperto è adeguato delle variazioni di fair value dello strumento di  copertura (par. 12.3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95680" y="3048120"/>
            <a:ext cx="5029200" cy="1066680"/>
          </a:xfrm>
          <a:custGeom>
            <a:avLst/>
            <a:gdLst>
              <a:gd name="textAreaLeft" fmla="*/ 0 w 5029200"/>
              <a:gd name="textAreaRight" fmla="*/ 5029560 w 50292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 variazioni di fair value dello strumento di copertura sono iscritte a 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 differenziale maturato sullo strumento di copertura è rilevato a conto economico (par. 12.3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0" y="4724280"/>
            <a:ext cx="5029200" cy="1752840"/>
          </a:xfrm>
          <a:custGeom>
            <a:avLst/>
            <a:gdLst>
              <a:gd name="textAreaLeft" fmla="*/ 0 w 5029200"/>
              <a:gd name="textAreaRight" fmla="*/ 5029560 w 502920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e variazioni di fair value dello strumento di copertura sono iscritte a 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riserva di PN è riclassificata a conto economico nel momento in cui questo è influenzato dalla posta cope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par. 12.3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09160" y="228600"/>
            <a:ext cx="20170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Hedge accou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0F5C3-61FD-4876-B01A-33E1068D72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04920" y="1371600"/>
            <a:ext cx="9219960" cy="533520"/>
          </a:xfrm>
          <a:custGeom>
            <a:avLst/>
            <a:gdLst>
              <a:gd name="textAreaLeft" fmla="*/ 0 w 9219960"/>
              <a:gd name="textAreaRight" fmla="*/ 9220320 w 92199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isulta necessario indicare i criteri valutativi e le politiche contabili utilizzati per gli strumenti finanziari (Par. 12.3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2209680"/>
            <a:ext cx="9219960" cy="533520"/>
          </a:xfrm>
          <a:custGeom>
            <a:avLst/>
            <a:gdLst>
              <a:gd name="textAreaLeft" fmla="*/ 0 w 9219960"/>
              <a:gd name="textAreaRight" fmla="*/ 9220320 w 92199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stato patrimoniale o in nota integrativa occorre indicare il valore delle seguenti categorie di strumenti finanziari (indicandone altresì la composizione se rilevante) (Par. 12.4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3016080"/>
            <a:ext cx="845820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ività finanziarie valutate al fair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9718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3625920"/>
            <a:ext cx="8458200" cy="38088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ività finanziarie valutate al costo ammortizz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35812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4235400"/>
            <a:ext cx="8458200" cy="38088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Strumenti di equity valutati al cos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41911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90720" y="4844880"/>
            <a:ext cx="845820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Impegni forward e opzioni valutati al c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4800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5454720"/>
            <a:ext cx="8458200" cy="38088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ssività finanziarie valutate al fair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54100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5987880"/>
            <a:ext cx="845820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ssività finanziarie valutate al costo ammortizz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5943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73520" y="228600"/>
            <a:ext cx="12294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Disclo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D8DA3-A917-4516-87B8-80CB1F607E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04920" y="1447920"/>
            <a:ext cx="9219960" cy="533160"/>
          </a:xfrm>
          <a:custGeom>
            <a:avLst/>
            <a:gdLst>
              <a:gd name="textAreaLeft" fmla="*/ 0 w 9219960"/>
              <a:gd name="textAreaRight" fmla="*/ 9220320 w 92199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 gli strumenti oggetto di valutazione al fair value occorre indicare i criteri utilizzati per la determinazione di tale valore (Par. 12.4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90720" y="2209680"/>
            <a:ext cx="8458200" cy="53352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l caso di strumenti valutati al costo ammortizzato non è necessario indicare il fair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ccorre, tuttavia, indicare le caratteristiche (tasso di interesse, rischio cambio e rischio credito) che possono influenzare i futuri flussi di cassa (par. 12.5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2165400"/>
            <a:ext cx="457200" cy="639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57400" y="3200400"/>
            <a:ext cx="7391520" cy="99072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Nel caso di cessioni che non soddisfano i requisiti per la derecognition occorre indic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natura dell’attivit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natura dei risk and re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ammontare dell’attività e dell’associata passivit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3200400"/>
            <a:ext cx="1676520" cy="99072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Derecog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(par. 12.4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57400" y="4572000"/>
            <a:ext cx="7391520" cy="76212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Per i crediti passivi occorre indicare i dettagli di eventuali default avvenuti nell’esercizio, il relativo valore contabile e se tale default è stato rimediato (anche attraverso la rinegoziazione delle condizioni contrattu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4572000"/>
            <a:ext cx="1676520" cy="76212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editi passiv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par. 12.4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5562720"/>
            <a:ext cx="7391520" cy="76176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Se l’impresa ha prestato  attività come collateral deve indicarne il valore contabile e le condizioni relativamente alle quali la garanzia è stata prest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5562720"/>
            <a:ext cx="1676520" cy="76176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Collat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(par. 12.4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73520" y="228600"/>
            <a:ext cx="12294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Disclo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A0E1F-82FC-401E-81FD-6E2E01241B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073520" y="228600"/>
            <a:ext cx="12294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Disclo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1371600"/>
            <a:ext cx="8610840" cy="4572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ccorre indicare separatamente per le diverse tipologie di copertura posta in essere (par. 12.49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2057400"/>
            <a:ext cx="5800680" cy="3762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a descrizione della copertu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29000" y="2971800"/>
            <a:ext cx="5800680" cy="42876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a descrizione degli strumenti finanziari di copertura e il relativo fair value alla data di bilanc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29000" y="4038480"/>
            <a:ext cx="5800680" cy="26856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a natura dei rischi copert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560" y="2057400"/>
            <a:ext cx="2293920" cy="304920"/>
          </a:xfrm>
          <a:prstGeom prst="rightArrow">
            <a:avLst>
              <a:gd name="adj1" fmla="val 50000"/>
              <a:gd name="adj2" fmla="val 1880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048120"/>
            <a:ext cx="2293920" cy="304560"/>
          </a:xfrm>
          <a:prstGeom prst="rightArrow">
            <a:avLst>
              <a:gd name="adj1" fmla="val 50000"/>
              <a:gd name="adj2" fmla="val 1882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1560" y="3962520"/>
            <a:ext cx="2293920" cy="304560"/>
          </a:xfrm>
          <a:prstGeom prst="rightArrow">
            <a:avLst>
              <a:gd name="adj1" fmla="val 50000"/>
              <a:gd name="adj2" fmla="val 1882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4648320"/>
            <a:ext cx="9219960" cy="533160"/>
          </a:xfrm>
          <a:custGeom>
            <a:avLst/>
            <a:gdLst>
              <a:gd name="textAreaLeft" fmla="*/ 0 w 9219960"/>
              <a:gd name="textAreaRight" fmla="*/ 9220320 w 92199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Per le coperture di fair value di strumenti a tasso fisso o di commodity occorre indicare la variazione di fair value dello strumento di copertura (coperto) iscritta a conto economico (par. 12.5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A08CB-4FE9-4EB7-8C8B-5185C9FDC4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14440" y="6156360"/>
            <a:ext cx="89154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 marL="511200" indent="-511200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090080"/>
            <a:ext cx="823464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 marL="380880" indent="-380880">
              <a:lnSpc>
                <a:spcPct val="130000"/>
              </a:lnSpc>
              <a:spcBef>
                <a:spcPts val="1375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Ind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055520"/>
            <a:ext cx="92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57480" y="2906640"/>
            <a:ext cx="92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152280"/>
            <a:ext cx="9601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900" spc="-1" strike="noStrike">
                <a:solidFill>
                  <a:srgbClr val="ffffff"/>
                </a:solidFill>
                <a:latin typeface="Arial"/>
              </a:rPr>
              <a:t>Le informazioni contenute nel documento sono altamente riservate e strettamente confidenziali, il documento non può in nessun caso essere consegnato a terze parti ed è indirizzato e rivolto esclusivamente ai destinatari diretti del materiale. E’ pertanto vietata qualsiasi tipo e forma di riproduzione e divulgazione a soggetti diversi dai destinatari. Esso non costituisce in alcun modo offerta o sollecitazione ad effettuare operazioni in strumenti finanziari. Le informazioni contenute nei documenti servono solo per l’approfondimento di tematiche specifiche e non possono essere utilizzate per la valutazione delle posizioni in essere ovvero per la certificazione di operazioni o di evidenze contabili. Inoltre, pur essendo le informazioni, le opinioni, le valutazioni, le stime o le previsioni contenute nei documenti basate su fonti ritenute affidabili, la Banca non esprime in alcun modo un giudizio, diretto o indiretto, sulle stesse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44520" y="3352680"/>
            <a:ext cx="92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57480" y="3753000"/>
            <a:ext cx="92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49200" y="4191120"/>
            <a:ext cx="9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49200" y="2438280"/>
            <a:ext cx="9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2514600"/>
            <a:ext cx="70102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Analogie e differenze con IAS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Classific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Impair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Derecog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Hedge accoun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Discl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52440" y="4621320"/>
            <a:ext cx="92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61150-4D51-4FE6-91F9-CE4B97A918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073520" y="228600"/>
            <a:ext cx="12294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Disclo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1447920"/>
            <a:ext cx="8991720" cy="457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Nel caso di coperture di strumenti a tasso variabile,  di  transazioni future o di investimenti in gestione estere occorre, inoltre, indicare (par. 12.5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14600" y="2170080"/>
            <a:ext cx="6553080" cy="30492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Il periodo in cui si suppone che si verificheranno i cash fl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14600" y="2733840"/>
            <a:ext cx="6553080" cy="30456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Quando tali cash flow incideranno sul conto econom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14600" y="3297240"/>
            <a:ext cx="6553080" cy="38088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a descrizione delle transazioni previste coperte ma che si presume non si verificheranno in futu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14600" y="3936960"/>
            <a:ext cx="6553080" cy="38088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’ammontare iscritto a patrimonio netto nel corso dell’eserciz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14600" y="4576680"/>
            <a:ext cx="655308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’ammontare rimosso dal patrimonio netto nel corso dell’esercizio e incluso nel conto econom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14600" y="5218200"/>
            <a:ext cx="6553080" cy="53316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’ammontare rimosso dal patrimonio netto nel corso dell’esercizio e incluso nel valore di carico dell’attività/passività non finanziaria coperta nell’ambito della copertura di una transazione prev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217008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14400" y="2703600"/>
            <a:ext cx="1523880" cy="304560"/>
          </a:xfrm>
          <a:prstGeom prst="rightArrow">
            <a:avLst>
              <a:gd name="adj1" fmla="val 50000"/>
              <a:gd name="adj2" fmla="val 1250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331308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396072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460836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14400" y="5307120"/>
            <a:ext cx="1523880" cy="304560"/>
          </a:xfrm>
          <a:prstGeom prst="rightArrow">
            <a:avLst>
              <a:gd name="adj1" fmla="val 50000"/>
              <a:gd name="adj2" fmla="val 1250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C2334-4852-48E6-9C37-7DA2DF256F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2362320"/>
            <a:ext cx="1676520" cy="5331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lassific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371600"/>
            <a:ext cx="7467840" cy="2590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i prevedono due sole categorie di attività finanziarie (Costo e Fair value). Non si prevede alcuna categoria </a:t>
            </a:r>
            <a:r>
              <a:rPr b="0" i="1" lang="it-IT" sz="1400" spc="-1" strike="noStrike">
                <a:solidFill>
                  <a:srgbClr val="000000"/>
                </a:solidFill>
                <a:latin typeface="Verdana"/>
              </a:rPr>
              <a:t>“Available for sale” alike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(parr. 12.7, 12.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E’ consentita l’applicazione della fair value option non subordinata al rispetto delle condizioni attualmente previste da IAS 39 (parr. 12.7, 12.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Non è prevista la possibilità di scorporare gli </a:t>
            </a:r>
            <a:r>
              <a:rPr b="0" i="1" lang="it-IT" sz="1400" spc="-1" strike="noStrike">
                <a:solidFill>
                  <a:srgbClr val="000000"/>
                </a:solidFill>
                <a:latin typeface="Verdana"/>
              </a:rPr>
              <a:t>embedded derivatives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Gli strumenti strutturati devono essere obbligatoriamente valutati al fair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- Le caratteristiche degli strumenti da valutare al costo ammortizzato sono chiaramente definite (par. 12.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5181480"/>
            <a:ext cx="167652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Valut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4648320"/>
            <a:ext cx="7467840" cy="1676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ono consentite due metodologie di valutazione: Costo/costo ammortizzato e Fair value (par. 12.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a guidance fornita per la determinazione del fair value è del tutto analoga a quella prevista da IAS 39 (Appendix to section 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econdo le definizioni riportate il costo ammortizzato è calcolato sulla base dei flussi di cassa attesi (come in IAS 39) (Glossari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55680" y="228600"/>
            <a:ext cx="34160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Analogie e differenze con IAS 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48F33-F9FD-40D1-AB6B-F047122C91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2362320"/>
            <a:ext cx="1676520" cy="5331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Impair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1371600"/>
            <a:ext cx="7467840" cy="2590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I concetti di incurred losses e di valutazione collettiva, pur non indicati, sono richiamati dalla lettura della norma (par. 12.1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Il metodo per il calcolo dell’impairment degli strumenti al costo ammortizzato è il medesimo previsto da IAS 39 mentre il metodo per quelli al costo è, nella lettera, diverso da quello previsto da IAS 39. Tuttavia i due metodi sembrano voler pervenire a risultati analoghi (par. 12.2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ono possibili riprese di valore a C/e su strumenti di equity valutati al costo (par. 12.2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5105520"/>
            <a:ext cx="1676520" cy="5331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Derecog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4495680"/>
            <a:ext cx="75438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Come in IAS 39 la derecognition si basa sulla cessione di tutti i </a:t>
            </a:r>
            <a:r>
              <a:rPr b="0" i="1" lang="it-IT" sz="1400" spc="-1" strike="noStrike">
                <a:solidFill>
                  <a:srgbClr val="000000"/>
                </a:solidFill>
                <a:latin typeface="Verdana"/>
              </a:rPr>
              <a:t>significant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it-IT" sz="1400" spc="-1" strike="noStrike">
                <a:solidFill>
                  <a:srgbClr val="000000"/>
                </a:solidFill>
                <a:latin typeface="Verdana"/>
              </a:rPr>
              <a:t>risk and rewards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connessi all’attività ceduta e, in subordine, sulla cessione del controllo (par. 12.2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Non è prevista la possibilità di rilevare</a:t>
            </a:r>
            <a:r>
              <a:rPr b="0" i="1" lang="it-IT" sz="1400" spc="-1" strike="noStrike">
                <a:solidFill>
                  <a:srgbClr val="000000"/>
                </a:solidFill>
                <a:latin typeface="Verdana"/>
              </a:rPr>
              <a:t> continuing invol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Il riacquisto di passività emesse non è causa di derecogntion di proprie passività (par. 12.2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55680" y="228600"/>
            <a:ext cx="34160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Analogie e differenze con IAS 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6DAA2-43F1-415C-BD41-3CFC8F70DC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1905120"/>
            <a:ext cx="1676520" cy="5331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Hedge accoun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1523880"/>
            <a:ext cx="7467840" cy="2819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e regole per l’applicazione dell’hedge accounting sono semplificate ma sono soggette a condizioni più stringenti rispetto a quelle previste da IAS 3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ezione 12 definisce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Verdana"/>
              </a:rPr>
              <a:t>nel dettaglio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trumenti di copertura e loro caratteristi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Tipologie di rischi copribili e contabilità ad essi applica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a verifica dell’efficacia si basa sull’analisi delle caratteristiche dello strumento di copertura rispetto alla posta coperta (parr. 12.30, 12.3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55680" y="228600"/>
            <a:ext cx="34160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Analogie e differenze con IAS 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6EF93-BE8C-4AD5-BE7E-E009F805FF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8600" y="1270080"/>
            <a:ext cx="9296280" cy="48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a sezione 12 prevede solamente due categorie di classificazione sia per le attività sia per le passività (parr. 12.7, 12.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2133720"/>
            <a:ext cx="2057400" cy="2176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osto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osto ammortizz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572000"/>
            <a:ext cx="205740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air value con iscrizione delle differenze a conto economic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2133720"/>
            <a:ext cx="6934320" cy="21762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zioni (e opzioni ad esse collegate) non quotate pubblicamente e il cui fair value non può essere determinato in modo affida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pegni ad erogare/ricevere finanziamenti che l’impresa decide di valutare al co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rumenti di debito che prevedono caratteristiche determinate dal principio e che l’impresa decide di valutare al costo ammortizz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4572000"/>
            <a:ext cx="6934320" cy="11430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Qualunque strumento non valutato al costo/costo ammortizz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5760" y="5918040"/>
            <a:ext cx="9491760" cy="48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Non sono ammesse riclassificazioni di strumenti finanziari da una classe all’altra (par. 12.1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04840" y="228600"/>
            <a:ext cx="16635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Classific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ED9A2-8E3B-4E1B-992C-05E902AC9E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3920" y="1270080"/>
            <a:ext cx="9300960" cy="48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 poter essere valutati al costo ammortizzato gli strumenti di debito devono presentare una serie di caratteristiche (par. 12.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1969920"/>
            <a:ext cx="838224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 strumento deve presentare una scadenza oppure deve essere pagabile a vi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2732040"/>
            <a:ext cx="8382240" cy="38088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 strumento richiede il rimborso di tutto l’ammontare ricevuto oppure erog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3494160"/>
            <a:ext cx="8382240" cy="4572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 strumento rende un ammontare fisso, un tasso fisso, oppure un tasso di interesse variabile che è quotato od osserva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4255920"/>
            <a:ext cx="8382240" cy="4572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 strumento non prevede clausole contrattuali in base alle quali il detentore possa non recuperare il nozionale e gli interessi per ragioni diverse da perdite su credi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4941720"/>
            <a:ext cx="8382240" cy="4572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ausole contrattuali di rimborso anticipato non possono essere dipendenti da eventi futu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49417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42559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349416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6989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19051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5791320"/>
            <a:ext cx="9301320" cy="48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In base a tali regole sembrano essere valutabili al costo ammortizzato solamente i crediti/titol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plain vanilla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I crediti/titoli convertibili o in altro modo strutturati devono essere valutati al fair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04840" y="228600"/>
            <a:ext cx="16635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Classific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F3763-7F8C-4055-8841-3BDB0CA3D5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3920" y="1143000"/>
            <a:ext cx="9300960" cy="48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Al termine di ogni esercizio gli strumenti valutati al costo/costo ammortizzato devono valutati al fine di individuare </a:t>
            </a:r>
            <a:r>
              <a:rPr b="0" i="1" lang="it-IT" sz="1400" spc="-1" strike="noStrike">
                <a:solidFill>
                  <a:srgbClr val="000000"/>
                </a:solidFill>
                <a:latin typeface="Verdana"/>
              </a:rPr>
              <a:t>evidenze oggettive di impairment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(parr. 12.18, 12.1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17960" y="1863720"/>
            <a:ext cx="6330960" cy="320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ificative difficoltà finanziarie dell’emit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17960" y="2344680"/>
            <a:ext cx="6330960" cy="479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azione degli accordi contrattuali quali l’inadempienza oppure il mancato pagamento del capitale o degli interes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17960" y="2984400"/>
            <a:ext cx="6330960" cy="479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estensione dal creditore al debitore di concessioni motivate dalle difficoltà finanziarie del debi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17960" y="3624120"/>
            <a:ext cx="6330960" cy="479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a probabilità di fallimento o di altra riorganizzazione finanziaria del debi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17960" y="4264200"/>
            <a:ext cx="6330960" cy="4791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mparsa dell’attività finanziaria da un mercato attivo a seguito delle difficoltà finanziarie sperimentate dall’emit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17960" y="4863960"/>
            <a:ext cx="6330960" cy="11559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Esistenza di dati osservabili indicativi di una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diminuzione misurabile, rispetto all’ iscrizione inizial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, nei futuri cash flow stimati di un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gruppo di attività finanziarie sebbene tale decremento non possa essere ancora attribuito a specifiche attività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sempi sono dati da condizioni geografiche o settoriali av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3265560"/>
            <a:ext cx="1863720" cy="13604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6b88a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Evidenze oggettive di impair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49560" y="1863720"/>
            <a:ext cx="323640" cy="4156200"/>
          </a:xfrm>
          <a:custGeom>
            <a:avLst/>
            <a:gdLst>
              <a:gd name="textAreaLeft" fmla="*/ 207000 w 323640"/>
              <a:gd name="textAreaRight" fmla="*/ 324000 w 323640"/>
              <a:gd name="textAreaTop" fmla="*/ 108360 h 4156200"/>
              <a:gd name="textAreaBottom" fmla="*/ 4047840 h 415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1862280"/>
            <a:ext cx="425160" cy="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90920" y="2422440"/>
            <a:ext cx="4251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90920" y="3032280"/>
            <a:ext cx="425160" cy="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3657600"/>
            <a:ext cx="4251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4327560"/>
            <a:ext cx="4251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4876920"/>
            <a:ext cx="425160" cy="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72440" y="228600"/>
            <a:ext cx="14043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Impair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D255F-816D-4B1D-A3F1-548F36D8D7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546200"/>
            <a:ext cx="304812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ttività finanziarie individualmente signific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1600200"/>
            <a:ext cx="2667240" cy="533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ggetto di valutazione anali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1676520"/>
            <a:ext cx="2514600" cy="380880"/>
          </a:xfrm>
          <a:prstGeom prst="rightArrow">
            <a:avLst>
              <a:gd name="adj1" fmla="val 50000"/>
              <a:gd name="adj2" fmla="val 1650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2590920"/>
            <a:ext cx="3048120" cy="5331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ttività finanziarie non signific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24480" y="2590920"/>
            <a:ext cx="2667240" cy="5331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ggetto di valutazione collet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2666880"/>
            <a:ext cx="2514600" cy="381240"/>
          </a:xfrm>
          <a:prstGeom prst="rightArrow">
            <a:avLst>
              <a:gd name="adj1" fmla="val 50000"/>
              <a:gd name="adj2" fmla="val 1648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581280"/>
            <a:ext cx="304812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zioni valutate al co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24480" y="3581280"/>
            <a:ext cx="2667240" cy="533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ggetto di valutazione anali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3657600"/>
            <a:ext cx="2514600" cy="380880"/>
          </a:xfrm>
          <a:prstGeom prst="rightArrow">
            <a:avLst>
              <a:gd name="adj1" fmla="val 50000"/>
              <a:gd name="adj2" fmla="val 1650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4572000"/>
            <a:ext cx="8921880" cy="1600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Sezione 12 non fa riferimenti espliciti al concetto di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incurred loss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é prevede la necessità di valutare collettivamente le attività per le quali la valutazione analitica non restituisce evidenze oggettive di impair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uttavia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necessità di valutazione analitica è richiamata dalla condizione 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 la lettera della condizione f) (…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diminuzione misurabile, rispetto all’ iscrizione inizial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…) richiama il concetto di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incurred lo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72440" y="228600"/>
            <a:ext cx="14043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Impair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5815C-6B7B-4099-8EA0-31BA8C8092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8:30:40Z</dcterms:created>
  <dc:creator>Administrator</dc:creator>
  <dc:description/>
  <cp:keywords/>
  <dc:language>en-US</dc:language>
  <cp:lastModifiedBy>claudia</cp:lastModifiedBy>
  <cp:lastPrinted>2003-11-20T09:44:48Z</cp:lastPrinted>
  <dcterms:modified xsi:type="dcterms:W3CDTF">2006-10-05T16:14:55Z</dcterms:modified>
  <cp:revision>629</cp:revision>
  <dc:subject/>
  <dc:title>PowerPoint Presentation</dc:title>
</cp:coreProperties>
</file>