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732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196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732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196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22860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8915400" y="617220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A6B-B262-42DB-B5D3-CC0F4C3789CD}" type="slidenum">
              <a:rPr b="1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47680" y="228600"/>
            <a:ext cx="92880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467160" y="632448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ahoma"/>
                <a:ea typeface="Tahoma"/>
              </a:rPr>
              <a:t>© 2006 IASC Foundation,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3160" y="533520"/>
            <a:ext cx="84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IASB Project on Accounting Standards for S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73160" y="2514600"/>
            <a:ext cx="8337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Gilbert G</a:t>
            </a:r>
            <a:r>
              <a:rPr b="1" lang="fr-FR" sz="3600" spc="-1" strike="noStrike">
                <a:solidFill>
                  <a:srgbClr val="00ff00"/>
                </a:solidFill>
                <a:latin typeface="Tahoma"/>
              </a:rPr>
              <a:t>él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IASB Board Me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ome, 6 October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-45540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cognition and measurement simplifications, page 2 of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Less fair value for agriculture – only if “readily available” fair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Defined benefit plans – principle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Share-based payment – intrinsic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rst-time adoption – less prior dat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mponent depreciation not require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E must try to find answers in SME standard by analogy and by using pervasive principl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t – SM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look to full IFRSs as a “safety net” – if answer cannot be found otherwi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cted to be rare for typical SM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Other Issue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uitability for micro-SMEs (tiny)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to managers of SME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for tax returns and dividend distribution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parate company statement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bined statement of income and retained earning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urisdiction can eliminate optio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all listed compani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Verdana"/>
              </a:rPr>
              <a:t>Rejected</a:t>
            </a: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 Simplification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op the cash flow state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leases operating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pension plans defined contribu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pleted contract on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ewer provi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share-based pay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deferred tax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st model for all agriculture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 consolida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ion paper on approach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une 2004.  120 comments receive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gnition and measurement (R&amp;M) questionnair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pril 2005.   101 respons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ublic roundtables on R&amp;M.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ctober 2005.  45 participant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Working Group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ree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anuary 2006 discussed draft ED two days.  84 recommendations to Boar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World Standard Setter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, 2005, 2006.  Feedback ses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SAC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1, 2003, 2004, 2005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liberations–public meeting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3 – 4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 – 9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5 – 7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6 – 7 meetings (so far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e draft ED now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ut 220 pag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54240" indent="-262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ull IFRSs now 2,400 pag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ganised by top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0 sec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veloped by considering needs of a company with about 50 employe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 financial state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losure checklis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Very close to issuance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Draft posted on IASB website in early August 2006 to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imulate early thinking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ay concer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ASB will likely publish translations of ED in Spanish and possibly French as well.  A first!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SME Concern: “Maintenance”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74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MEs are worried about frequent updating of IFRS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cision: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date the IFRS for SMEs every 2 year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mnibus Exposure Draft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Next Step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ntative dates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posure Draft – Q4  2006. 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 month comment period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lation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eld tests and/or visits to SMEs?  Round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nal Standard – 2007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ffective – 2008 or 2009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Benefits of global accounting standards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listed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mpanies are obvious in globalised financial markets.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Even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unlisted SMEs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, financial statements that are understandable across borders are needed: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anks make loans across borders and operate multi-national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ndors from other countr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redit rating agenc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seas customer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eign ventur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Questions for WSS Discussion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SM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users (lenders, rating agencies, venture capital)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can jurisdictions help in field tests/field visit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ocal or regional round 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Other questions you may have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5531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Discussion time – your turn!</a:t>
            </a:r>
            <a:endParaRPr b="1" lang="en-US" sz="5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98440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7800" y="3352680"/>
            <a:ext cx="54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RESSIONS OF INDIVIDUAL VIEWS BY MEMBERS OF THE IASB AND ITS STAFF ARE ENCOURAGED.  THE VIEWS EXPRESSED IN THIS PRESENTATION ARE THOSE OF G. GELARD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OFFICIAL POSITIONS OF THE IASB ON ACCOUNTING MATTERS ARE DETERMINED ONLY AFTER EXTENSIVE DUE PROCESS AND DELIB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-11160"/>
            <a:ext cx="8610840" cy="682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828800"/>
            <a:ext cx="8648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IFRS for Small and Medium-sized Entit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83808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wo edged-sword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Good accounting and more disclosu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SME burdens, not reduce them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MEs often see greater transparency as ‘competitively harmful’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t the same time, good accounting and disclosure give investor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fiden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provid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olution: Tailor requirements for SMEs.  This is what the IASB SME project is all abou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IASB Definition of SME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2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ASB tentative view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FRS for SMEs is appropriate for an entity with no public accountability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publicly traded; an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a financial institution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 entity whose securities are publicly traded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ublic accountability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eed full IFRSs for investor protection – even for small listed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914400"/>
            <a:ext cx="899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non-publicly accountable entities that publish general purpose financial statements for external users, including: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n-manager owne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isting and potential lenders and credito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redit rating agenc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typical SME with about 50 employees in deciding the content of the IFRS for SMEs.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58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quantified “size test”. Each jurisdiction should develop detailed guidelines on which entities are eligible to u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and-alone document as much as possibl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amework concepts and pervasive principles added, to minimise need for fallback to full IFRS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837720"/>
            <a:ext cx="916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terial not relevant to typical SME omitted, with cross-references to IFRS if needed.  Examples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yperinflation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quity-settled share-based paymen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gricultur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ractive industr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rim repor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essor finance leas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verable amount of goodwil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16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ly simpler of options in full IFRS are included. Other(s) cross-referenced.  So, only: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investment property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PP&amp;E and intangibl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nse all borrowing cos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direct operating cash flow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ne method for all grant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-504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ognition and measurement simplifications, page 1 of 2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nancial instrument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Two classifications, not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Drop “continuing involvement approach” for de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Much simplified hedge ac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Goodwill impairment – indicator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Expense all R&amp;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st method for associates and JV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Income taxes – timing difference metho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20:00:26Z</dcterms:created>
  <dc:creator>Hugh Harrison (Open)
</dc:creator>
  <dc:description/>
  <dc:language>en-US</dc:language>
  <cp:lastModifiedBy>cristina stacchini</cp:lastModifiedBy>
  <cp:lastPrinted>2001-02-21T16:18:07Z</cp:lastPrinted>
  <dcterms:modified xsi:type="dcterms:W3CDTF">2006-10-03T14:21:30Z</dcterms:modified>
  <cp:revision>482</cp:revision>
  <dc:subject/>
  <dc:title>No Slide Title</dc:title>
</cp:coreProperties>
</file>