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B05-B057-4D9C-A3F0-3874985C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A7A-C310-4A79-8388-6746F27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F8F-B67D-496A-8B6D-855F0DF8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91A-84F6-412D-953B-536888B9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091D-194F-446F-8D3F-32777210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2F8-944C-4574-9E7D-03AF8FB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C1D5-7B85-482A-A2FA-D8F7C45B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119C-13EE-4FD7-959E-7B036372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430E-C277-45AB-9636-A74FA40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3BB3-7241-4ECC-916F-ABF1D410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4725-F0F2-4B02-BFA5-034AFA1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A20-DD41-48E2-8E4C-818B488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DD83-CCDF-4CBC-9237-76CA752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E6C5-65D7-4726-8EB2-E2E64C1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FFB-E3C2-446E-AE85-8DB9A572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73BD-3F5C-4829-9A47-C0B94E34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F2E-5DD0-4183-909E-6C433808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563-520F-4B1F-AACD-9AF61B16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6E9-7475-4968-BAD1-9A53902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756-7F60-459D-9EFC-B1B8063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BB3-C1D5-4F06-8D93-A595999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96C-5B39-4FED-9EC2-C46BD7C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DA9-4124-413A-8BC5-ABCA877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CBE-C334-4416-A8BB-6A2C213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2045-223E-45DD-8F73-90088B7B7BBD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25A9-1D4B-407B-BB65-EEAD9C26FC4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7EC6A04C-B321-4C02-B4E2-BEE2ABDC688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A317961B-B27B-4AC3-A452-2025B7B35166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.  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FAC – Nel 2000: difficoltà estensione IAS fuor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del circuito Società quo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rgenza di tutte le professioni contabi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esi sviluppati ed in via di svilup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ndo anglo-sassone ed europ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7C868705-734F-461F-99A9-EB339642D013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476280">
              <a:lnSpc>
                <a:spcPct val="25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put da IFAC a I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AC: SMP Committee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ASB: working group-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A54D79A2-7F29-4497-81A5-28182AB6274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base della scel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rs ne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EE90D2D9-B8CC-45F0-BF87-86263EA487B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 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797AD1F5-DBE9-4172-8462-8A17B621650F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– Qualit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IE- NP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fld id="{C6DC6BE3-5469-4E44-A0C2-EB92F1514B0C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attuali linee gui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die Imprese o Micro-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A367E2BF-CA63-45BE-B146-186CDFEA7328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nione Europ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A e Ca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D5E3AF80-BEA0-4FD4-A8A6-EA7C8419D257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tivo: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: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ggiorna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claudia</cp:lastModifiedBy>
  <dcterms:modified xsi:type="dcterms:W3CDTF">2006-10-05T16:14:03Z</dcterms:modified>
  <cp:revision>14</cp:revision>
  <dc:subject/>
  <dc:title>Presentazione di PowerPoint</dc:title>
</cp:coreProperties>
</file>