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8C11-9403-4094-879C-3C32AF318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405720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74EA-119A-4570-A895-E1EA40BC3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3716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3716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6338-3C54-499B-BBD0-56F7A7975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960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9796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960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9796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CB49-53F5-4E0B-A595-9A202975C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6AD29-A6A2-4329-9188-648A7A5D8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8088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39FD3-10AE-43AE-978E-9DEA3BE47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B8727-4673-42FE-B68E-323144422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3716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7C228-B318-4BDD-8DC9-D3A8FD87B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3F3AE-56AA-4322-9C7B-AB8518FA5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95FA6-0EA9-497E-89AD-4FD14F51B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3716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8088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22A86-F380-436C-AB4E-3B62200C6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3F05-5639-4A61-903A-A1E40B51D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3716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3716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DE425-D0F9-4884-A565-03458F31F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3716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80880" y="405720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C7668-F1BF-4E21-89F8-BFE89378E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80880" y="405720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E8628-3B36-4778-859C-B01D8997B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3716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88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3716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FA8D2-2BDF-439A-8286-52073641A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8960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9796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8088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8960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9796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C69BB-18EE-470A-9512-0E4C02D51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B8AE-9EE0-4847-801B-3FE7FCDB8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3716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3CDE-D76C-4192-BF06-790BA344E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4BA5-9819-4C59-81A2-938C26FE4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A8AB-74A0-4AB8-8354-1FCB2C42C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3716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2590-054E-4B95-977C-E5E1FC67A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3716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3716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6DF9-D232-43F4-B62C-5A20F810A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716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405720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B291-2402-4B1C-8D17-D2C3C3CF0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757520" cy="1305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8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Roma, 6 ottobre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40A0E-EC3B-4817-B371-7B5FBDFA9492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8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44352-DC87-4115-A70C-E5E50B7856E5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80"/>
                </a:solidFill>
                <a:latin typeface="Arial"/>
              </a:rPr>
              <a:t>I progetti OIC e IASB</a:t>
            </a:r>
            <a:br>
              <a:rPr sz="3600"/>
            </a:br>
            <a:r>
              <a:rPr b="1" lang="it-IT" sz="3600" spc="-1" strike="noStrike">
                <a:solidFill>
                  <a:srgbClr val="000080"/>
                </a:solidFill>
                <a:latin typeface="Arial"/>
              </a:rPr>
              <a:t>per le SME</a:t>
            </a:r>
            <a:br>
              <a:rPr sz="3600"/>
            </a:br>
            <a:r>
              <a:rPr b="0" lang="it-IT" sz="3600" spc="-1" strike="noStrike">
                <a:solidFill>
                  <a:srgbClr val="000080"/>
                </a:solidFill>
                <a:latin typeface="Arial"/>
              </a:rPr>
              <a:t>(</a:t>
            </a:r>
            <a:r>
              <a:rPr b="0" lang="it-IT" sz="2400" spc="-1" strike="noStrike">
                <a:solidFill>
                  <a:srgbClr val="000080"/>
                </a:solidFill>
                <a:latin typeface="Arial"/>
              </a:rPr>
              <a:t>Small and Medium Entities</a:t>
            </a:r>
            <a:r>
              <a:rPr b="0" lang="it-IT" sz="3600" spc="-1" strike="noStrike">
                <a:solidFill>
                  <a:srgbClr val="00008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0" y="38095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333399"/>
                </a:solidFill>
                <a:latin typeface="Arial"/>
              </a:rPr>
              <a:t>ASSONANZE e DISSONANZ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838080" y="5153040"/>
            <a:ext cx="762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052360" y="5168880"/>
            <a:ext cx="546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rof. Angelo Provas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residente del Comitato Esecutivo O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838080" y="914400"/>
            <a:ext cx="2494080" cy="17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80"/>
                </a:solidFill>
                <a:latin typeface="Arial"/>
              </a:rPr>
              <a:t>Assonanze e Dissonanze</a:t>
            </a:r>
            <a:br>
              <a:rPr sz="3600"/>
            </a:br>
            <a:r>
              <a:rPr b="0" lang="it-IT" sz="2800" spc="-1" strike="noStrike">
                <a:solidFill>
                  <a:srgbClr val="000080"/>
                </a:solidFill>
                <a:latin typeface="Arial"/>
              </a:rPr>
              <a:t>Criteri di valutazione - Partecipazioni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80"/>
                </a:solidFill>
                <a:latin typeface="Arial"/>
              </a:rPr>
              <a:t>Progetto OI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artecipazioni di controllo, joint ventures e di collegamen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onsente l’alternativa tra il metodo del costo e quello del patrimonio net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artecipazioni di minoranza (strumenti finanziari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onsente l’alternativa tra il metodo del costo e il fair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80"/>
                </a:solidFill>
                <a:latin typeface="Arial"/>
              </a:rPr>
              <a:t>Progetto IASB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artecipazioni di controllo (in non quotate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revede nel bilancio separato il metodo del costo o il fair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Joint ventures e partecipazioni di collegamen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revede il metodo del costo, del patrimonio netto, o il fair value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artecipazioni di minoranza (strumenti finanziari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revede il fair value. Il costo è ammesso solo nel caso che il fair value risulti inattendib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‘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er le joint ventures è consentito anche il consolidamento proporziona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80"/>
                </a:solidFill>
                <a:latin typeface="Arial"/>
              </a:rPr>
              <a:t>Assonanze e Dissonanze</a:t>
            </a:r>
            <a:br>
              <a:rPr sz="3600"/>
            </a:br>
            <a:r>
              <a:rPr b="0" lang="it-IT" sz="2800" spc="-1" strike="noStrike">
                <a:solidFill>
                  <a:srgbClr val="000080"/>
                </a:solidFill>
                <a:latin typeface="Arial"/>
              </a:rPr>
              <a:t>Criteri di valutazione - Imposte differite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80"/>
                </a:solidFill>
                <a:latin typeface="Arial"/>
              </a:rPr>
              <a:t>Progetto OI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revede che si calcolino sulle differenze temporanee tra i valori civilistici e valori fiscali degli elementi dell’attivo e del pass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80"/>
                </a:solidFill>
                <a:latin typeface="Arial"/>
              </a:rPr>
              <a:t>Progetto IASB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revede il calcolo sulla base delle sole differenze tra il risultato d’esercizio e il reddito imponibile, senza riguardo alle differenze patrimonia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80"/>
                </a:solidFill>
                <a:latin typeface="Arial"/>
              </a:rPr>
              <a:t>Assonanze e Dissonanze</a:t>
            </a:r>
            <a:br>
              <a:rPr sz="3600"/>
            </a:br>
            <a:r>
              <a:rPr b="0" lang="it-IT" sz="2800" spc="-1" strike="noStrike">
                <a:solidFill>
                  <a:srgbClr val="000080"/>
                </a:solidFill>
                <a:latin typeface="Arial"/>
              </a:rPr>
              <a:t>In sintesi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l progetto OIC, pur essendo abbastanza allineato alla proposta dello IASB, è in alcuni casi più flessibile per adattarsi alla realtà naziona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l progetto OIC è, quindi, una tappa di avvicinamento verso l’applicazione generalizzata dei principi IASB per le S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80"/>
                </a:solidFill>
                <a:latin typeface="Arial"/>
              </a:rPr>
              <a:t>Assonanze e Dissonanze</a:t>
            </a:r>
            <a:br>
              <a:rPr sz="3600"/>
            </a:br>
            <a:r>
              <a:rPr b="0" lang="it-IT" sz="2800" spc="-1" strike="noStrike">
                <a:solidFill>
                  <a:srgbClr val="000080"/>
                </a:solidFill>
                <a:latin typeface="Arial"/>
              </a:rPr>
              <a:t>Schema dello Stato Patrimoniale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80"/>
                </a:solidFill>
                <a:latin typeface="Arial"/>
              </a:rPr>
              <a:t>Progetto OIC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uddivisione delle attività e passività tra correnti e non corren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Modifiche consistenti alle classi di valori vigen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mplificazione dello schema (più sintetico dell’attuale, analisi e dettagli in Nota integrativ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liminazione di alcune voci attive (p. es. costi di impianto e ampliamento, ricerca, pubblicità) non più capitalizzabili salvo in certe condizioni i costi di svilup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nti d’ordine non presentati in calce allo schema ma in nota integra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80"/>
                </a:solidFill>
                <a:latin typeface="Arial"/>
              </a:rPr>
              <a:t>Progetto IASB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80"/>
                </a:solidFill>
                <a:latin typeface="Arial"/>
              </a:rPr>
              <a:t>consente schemi ancora più sintetici, ma la differenza è contenu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80"/>
                </a:solidFill>
                <a:latin typeface="Arial"/>
              </a:rPr>
              <a:t>I costi di sviluppo </a:t>
            </a:r>
            <a:r>
              <a:rPr b="0" i="1" lang="it-IT" sz="2000" spc="-1" strike="noStrike">
                <a:solidFill>
                  <a:srgbClr val="000080"/>
                </a:solidFill>
                <a:latin typeface="Arial"/>
              </a:rPr>
              <a:t>possono</a:t>
            </a:r>
            <a:r>
              <a:rPr b="0" lang="it-IT" sz="2000" spc="-1" strike="noStrike">
                <a:solidFill>
                  <a:srgbClr val="000080"/>
                </a:solidFill>
                <a:latin typeface="Arial"/>
              </a:rPr>
              <a:t> essere spesa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80"/>
                </a:solidFill>
                <a:latin typeface="Arial"/>
              </a:rPr>
              <a:t>Assonanze e Dissonanze</a:t>
            </a:r>
            <a:br>
              <a:rPr sz="3600"/>
            </a:br>
            <a:r>
              <a:rPr b="0" lang="it-IT" sz="2800" spc="-1" strike="noStrike">
                <a:solidFill>
                  <a:srgbClr val="000080"/>
                </a:solidFill>
                <a:latin typeface="Arial"/>
              </a:rPr>
              <a:t>Schema del Conto Economico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80"/>
                </a:solidFill>
                <a:latin typeface="Arial"/>
              </a:rPr>
              <a:t>Progetto OI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Non troppo diverso da quello vigen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Esposizione scal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Classificazione dei costi per natu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Riduzione di alcuni dettagli, da esporre nella nota integrativ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80"/>
                </a:solidFill>
                <a:latin typeface="Arial"/>
              </a:rPr>
              <a:t>Rispetto al progetto IASB, quello OIC è più articolato e puntuale, ma non se ne discosta significativamente nella logica di fon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80"/>
                </a:solidFill>
                <a:latin typeface="Arial"/>
              </a:rPr>
              <a:t>Assonanze e Dissonanze</a:t>
            </a:r>
            <a:br>
              <a:rPr sz="3600"/>
            </a:br>
            <a:r>
              <a:rPr b="0" lang="it-IT" sz="2800" spc="-1" strike="noStrike">
                <a:solidFill>
                  <a:srgbClr val="000080"/>
                </a:solidFill>
                <a:latin typeface="Arial"/>
              </a:rPr>
              <a:t>Prospetti aggiuntivi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80"/>
                </a:solidFill>
                <a:latin typeface="Arial"/>
              </a:rPr>
              <a:t>Progetto OI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isciplinati speficamen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Prospetto delle variazioni delle voci di Patrimonio Net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Rendiconto Finanziar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80"/>
                </a:solidFill>
                <a:latin typeface="Arial"/>
              </a:rPr>
              <a:t>Il progetto OIC è sostanzialmente allineato con il progetto IAS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80"/>
                </a:solidFill>
                <a:latin typeface="Arial"/>
              </a:rPr>
              <a:t>Assonanze e Dissonanze</a:t>
            </a:r>
            <a:br>
              <a:rPr sz="3600"/>
            </a:br>
            <a:r>
              <a:rPr b="0" lang="it-IT" sz="2800" spc="-1" strike="noStrike">
                <a:solidFill>
                  <a:srgbClr val="000080"/>
                </a:solidFill>
                <a:latin typeface="Arial"/>
              </a:rPr>
              <a:t>Criteri di valutazione - Fair value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80"/>
                </a:solidFill>
                <a:latin typeface="Arial"/>
              </a:rPr>
              <a:t>Progetto OI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dozione del fair value: </a:t>
            </a:r>
            <a:r>
              <a:rPr b="0" lang="it-IT" sz="2000" spc="-1" strike="noStrike">
                <a:solidFill>
                  <a:srgbClr val="800000"/>
                </a:solidFill>
                <a:latin typeface="Arial"/>
              </a:rPr>
              <a:t>obbligatoria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0" lang="it-IT" sz="2000" spc="-1" strike="noStrike">
                <a:solidFill>
                  <a:srgbClr val="800000"/>
                </a:solidFill>
                <a:latin typeface="Arial"/>
              </a:rPr>
              <a:t>facoltativa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roposta di non renderla obbligatoria, ma di prevedere opzioni; tuttavia, adozione obbligatoria per rilevare i contratti deriva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Disciplina del fair value dettagliata per gli strumenti finanziari con imputazione della variazione a riserva o a conto economico a seconda dei ca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80"/>
                </a:solidFill>
                <a:latin typeface="Arial"/>
              </a:rPr>
              <a:t>Le opzioni per l’adozione del fair value nel progetto IASB si limitano a ridurre le categorie di tali strumenti da quattro a due, e la variazione del fair value sempre a conto economico. Non sono ammesse alternative sulle valutazio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80"/>
                </a:solidFill>
                <a:latin typeface="Arial"/>
              </a:rPr>
              <a:t>Assonanze e Dissonanze</a:t>
            </a:r>
            <a:br>
              <a:rPr sz="3600"/>
            </a:br>
            <a:r>
              <a:rPr b="0" lang="it-IT" sz="2800" spc="-1" strike="noStrike">
                <a:solidFill>
                  <a:srgbClr val="000080"/>
                </a:solidFill>
                <a:latin typeface="Arial"/>
              </a:rPr>
              <a:t>Criteri di valutazione - Fair value per altre voci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80"/>
                </a:solidFill>
                <a:latin typeface="Arial"/>
              </a:rPr>
              <a:t>Progetto OI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revista facoltà di criteri di valutazione alternativi al costo p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mmobilizzazioni materiali e immateria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nvestimenti immobilia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ttività biologiche (opzione tra presumibile valore di realizzo e costo) e prodotti agrico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80"/>
                </a:solidFill>
                <a:latin typeface="Arial"/>
              </a:rPr>
              <a:t>Il progetto OIC sostanzialmente coincide con quello IASB; tuttav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ttività biologiche: fair value obbligatorio, salvo casi di sua indisponibilit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80"/>
                </a:solidFill>
                <a:latin typeface="Arial"/>
              </a:rPr>
              <a:t>Assonanze e Dissonanze</a:t>
            </a:r>
            <a:br>
              <a:rPr sz="3600"/>
            </a:br>
            <a:r>
              <a:rPr b="0" lang="it-IT" sz="2800" spc="-1" strike="noStrike">
                <a:solidFill>
                  <a:srgbClr val="000080"/>
                </a:solidFill>
                <a:latin typeface="Arial"/>
              </a:rPr>
              <a:t>Criteri di valutazione</a:t>
            </a:r>
            <a:br>
              <a:rPr sz="2800"/>
            </a:br>
            <a:r>
              <a:rPr b="0" lang="it-IT" sz="2800" spc="-1" strike="noStrike">
                <a:solidFill>
                  <a:srgbClr val="000080"/>
                </a:solidFill>
                <a:latin typeface="Arial"/>
              </a:rPr>
              <a:t>Ammortamento dei beni materiali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In entrambi i progetti il valore da ammortizzare è la differenza tra costo d’acquisto (o fair value) e valore residu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80"/>
                </a:solidFill>
                <a:latin typeface="Arial"/>
              </a:rPr>
              <a:t>A differenza del progetto OIC, lo IASB prescrive la rideterminazione del fair value del valore residuo alla fine di ogni periodo e quindi l’ammortamento del bene può risultare variabile di anno in ann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80"/>
                </a:solidFill>
                <a:latin typeface="Arial"/>
              </a:rPr>
              <a:t>Assonanze e Dissonanze</a:t>
            </a:r>
            <a:br>
              <a:rPr sz="3600"/>
            </a:br>
            <a:r>
              <a:rPr b="0" lang="it-IT" sz="2800" spc="-1" strike="noStrike">
                <a:solidFill>
                  <a:srgbClr val="000080"/>
                </a:solidFill>
                <a:latin typeface="Arial"/>
              </a:rPr>
              <a:t>Criteri di valutazione</a:t>
            </a:r>
            <a:br>
              <a:rPr sz="2800"/>
            </a:br>
            <a:r>
              <a:rPr b="0" lang="it-IT" sz="2800" spc="-1" strike="noStrike">
                <a:solidFill>
                  <a:srgbClr val="000080"/>
                </a:solidFill>
                <a:latin typeface="Arial"/>
              </a:rPr>
              <a:t>Ammortamento dei beni immateriali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80"/>
                </a:solidFill>
                <a:latin typeface="Arial"/>
              </a:rPr>
              <a:t>Progetto OI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mmortamento sistematico dei beni immateriali anche se a vita indefin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80"/>
                </a:solidFill>
                <a:latin typeface="Arial"/>
              </a:rPr>
              <a:t>Progetto IASB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l valore dei beni immateriali a vita indefinita non deve essere ammortizzato, ma verificato almeno annualmente (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impairment tes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80"/>
                </a:solidFill>
                <a:latin typeface="Arial"/>
              </a:rPr>
              <a:t>Assonanze e Dissonanze</a:t>
            </a:r>
            <a:br>
              <a:rPr sz="3600"/>
            </a:br>
            <a:r>
              <a:rPr b="0" lang="it-IT" sz="2800" spc="-1" strike="noStrike">
                <a:solidFill>
                  <a:srgbClr val="000080"/>
                </a:solidFill>
                <a:latin typeface="Arial"/>
              </a:rPr>
              <a:t>Criteri di valutazione - TFR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80"/>
                </a:solidFill>
                <a:latin typeface="Arial"/>
              </a:rPr>
              <a:t>Progetto OI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Mantiene il criterio del Codice Civile  del debito matur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80"/>
                </a:solidFill>
                <a:latin typeface="Arial"/>
              </a:rPr>
              <a:t>Progetto IASB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revede l’applicazione dei criteri di valutazione e di attualizzazione previsti dallo IAS 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11:10:19Z</dcterms:created>
  <dc:creator>Franco Franchi</dc:creator>
  <dc:description/>
  <dc:language>en-US</dc:language>
  <cp:lastModifiedBy>claudia</cp:lastModifiedBy>
  <cp:lastPrinted>1904-01-01T00:00:00Z</cp:lastPrinted>
  <dcterms:modified xsi:type="dcterms:W3CDTF">2006-10-05T16:15:13Z</dcterms:modified>
  <cp:revision>12</cp:revision>
  <dc:subject/>
  <dc:title>I progetti OIC e IASB per le SME (Small and Medium Entities)</dc:title>
</cp:coreProperties>
</file>