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22B1-6093-46FF-8B71-07C1FE4A8C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ussion papers and Eds have at least 90 days for public com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earch to discussion paper phase variable, but at least 12-24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ter Standard has been published, usually 6-18 months before Standard becomes mandatory to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ussion papers and Eds have at least 90 days for public com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earch to discussion paper phase variable, but at least 12-24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ter Standard has been published, usually 6-18 months before Standard becomes mandatory to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ussion papers and Eds have at least 90 days for public com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earch to discussion paper phase variable, but at least 12-24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ter Standard has been published, usually 6-18 months before Standard becomes mandatory to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inciples need you to use your brain to apply jud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294800"/>
            <a:ext cx="819288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6008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29480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60080" y="429480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1960" y="228564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02160" y="228564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29480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1960" y="429480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02160" y="429480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BA8F7-1CF0-4445-959E-72589896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06304-A17B-4062-BC06-F0479EE0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596F4-DF5D-4522-BDC3-1AFE4215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39978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60080" y="2285640"/>
            <a:ext cx="39978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96BD3-9F58-4A2D-ACFE-17CDA136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3B373-FBB5-411D-A9BC-78153F9D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1DBDC-DF28-4B70-9E8B-8AA2B70B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0080" y="2285640"/>
            <a:ext cx="39978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29480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6EFFA-AB95-4FBD-A78A-1E7C2C73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39978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6008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60080" y="429480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57A8D-2FB2-4A95-AF93-6BBED0A7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6008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294800"/>
            <a:ext cx="819288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F7D5E-61AF-4AA0-99AF-7492AE6E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294800"/>
            <a:ext cx="819288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281CF-284B-41AF-8E8D-E42E0BD6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6008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29480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60080" y="429480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E23CD-406A-4BCE-BB3E-90F69962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1960" y="228564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02160" y="228564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29480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1960" y="429480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02160" y="429480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81182-A970-43B5-9649-ED70ECBA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39978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0080" y="2285640"/>
            <a:ext cx="39978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0080" y="2285640"/>
            <a:ext cx="39978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29480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39978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008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60080" y="429480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008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294800"/>
            <a:ext cx="819288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1828800"/>
            <a:ext cx="8381880" cy="763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ff0000"/>
              </a:buClr>
              <a:buSzPct val="85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f2f20e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f2f20e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01000" y="609480"/>
            <a:ext cx="701640" cy="679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534520" y="1143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DBA1-71FA-44AB-87EB-0C04F5D27411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43800" y="457200"/>
            <a:ext cx="1143000" cy="1108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534520" y="1432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164628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International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ccounting Standards Bo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3657600"/>
            <a:ext cx="7620120" cy="763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2f20e"/>
              </a:buClr>
              <a:buSzPct val="5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2f20e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67248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International Accounting Standards Board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5280" y="4005000"/>
            <a:ext cx="7047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A set of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lides</a:t>
            </a: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 to support our outreach activities 2006/7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Stability </a:t>
            </a:r>
            <a:br>
              <a:rPr sz="4000"/>
            </a:br>
            <a:r>
              <a:rPr b="1" lang="en-US" sz="4000" spc="-1" strike="noStrike">
                <a:solidFill>
                  <a:srgbClr val="f2f20e"/>
                </a:solidFill>
                <a:latin typeface="Arial"/>
              </a:rPr>
              <a:t>    - </a:t>
            </a:r>
            <a:r>
              <a:rPr b="1" lang="en-US" sz="3600" spc="-1" strike="noStrike">
                <a:solidFill>
                  <a:srgbClr val="f2f20e"/>
                </a:solidFill>
                <a:latin typeface="Arial"/>
              </a:rPr>
              <a:t>with responsiveness</a:t>
            </a:r>
            <a:endParaRPr b="1" lang="en-US" sz="36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 one major change a ye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new major standard change mandatory before 200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approval of standard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 months before manda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Opinions encouraged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2421000"/>
            <a:ext cx="819288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ASB work program is public and open for discu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ing groups and round tables are now comm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ussion papers more frequ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e process handbook publish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Thorough due process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suance of new standards, changes of existing and interpretations done only after allowing for opinions from anyone interes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ent periods enhanc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0e"/>
                </a:solidFill>
                <a:latin typeface="Arial"/>
              </a:rPr>
              <a:t>Thorough due process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4272120"/>
            <a:ext cx="1235160" cy="668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445000"/>
            <a:ext cx="98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t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nd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779560"/>
            <a:ext cx="1374840" cy="1152720"/>
          </a:xfrm>
          <a:prstGeom prst="flowChartPunchedTap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32000" y="2744640"/>
            <a:ext cx="1231920" cy="1224000"/>
          </a:xfrm>
          <a:prstGeom prst="flowChartPunchedTap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os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2708280"/>
            <a:ext cx="1306440" cy="1295280"/>
          </a:xfrm>
          <a:prstGeom prst="flowChartPunchedTap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3800" y="56404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2760840"/>
            <a:ext cx="1133640" cy="119376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111400" y="4662000"/>
            <a:ext cx="654120" cy="241920"/>
            <a:chOff x="2111400" y="4662000"/>
            <a:chExt cx="654120" cy="241920"/>
          </a:xfrm>
        </p:grpSpPr>
        <p:sp>
          <p:nvSpPr>
            <p:cNvPr id="141" name=""/>
            <p:cNvSpPr/>
            <p:nvPr/>
          </p:nvSpPr>
          <p:spPr>
            <a:xfrm>
              <a:off x="2111400" y="4662360"/>
              <a:ext cx="65412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11400" y="466236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438280" y="46620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806480" y="5043240"/>
            <a:ext cx="654120" cy="241560"/>
            <a:chOff x="1806480" y="5043240"/>
            <a:chExt cx="654120" cy="241560"/>
          </a:xfrm>
        </p:grpSpPr>
        <p:sp>
          <p:nvSpPr>
            <p:cNvPr id="145" name=""/>
            <p:cNvSpPr/>
            <p:nvPr/>
          </p:nvSpPr>
          <p:spPr>
            <a:xfrm>
              <a:off x="1806480" y="504360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06480" y="50436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133360" y="50432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611440" y="5084280"/>
            <a:ext cx="654120" cy="241920"/>
            <a:chOff x="2611440" y="5084280"/>
            <a:chExt cx="654120" cy="241920"/>
          </a:xfrm>
        </p:grpSpPr>
        <p:sp>
          <p:nvSpPr>
            <p:cNvPr id="149" name=""/>
            <p:cNvSpPr/>
            <p:nvPr/>
          </p:nvSpPr>
          <p:spPr>
            <a:xfrm>
              <a:off x="2611440" y="5084640"/>
              <a:ext cx="65412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11440" y="50846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938320" y="50842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916360" y="4703400"/>
            <a:ext cx="653760" cy="241560"/>
            <a:chOff x="2916360" y="4703400"/>
            <a:chExt cx="653760" cy="241560"/>
          </a:xfrm>
        </p:grpSpPr>
        <p:sp>
          <p:nvSpPr>
            <p:cNvPr id="153" name=""/>
            <p:cNvSpPr/>
            <p:nvPr/>
          </p:nvSpPr>
          <p:spPr>
            <a:xfrm>
              <a:off x="2916360" y="4703760"/>
              <a:ext cx="65376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6360" y="470376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243240" y="47034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340000" y="5424120"/>
            <a:ext cx="654120" cy="241560"/>
            <a:chOff x="2340000" y="5424120"/>
            <a:chExt cx="654120" cy="241560"/>
          </a:xfrm>
        </p:grpSpPr>
        <p:sp>
          <p:nvSpPr>
            <p:cNvPr id="157" name=""/>
            <p:cNvSpPr/>
            <p:nvPr/>
          </p:nvSpPr>
          <p:spPr>
            <a:xfrm>
              <a:off x="2340000" y="542448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40000" y="54244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666880" y="542412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 flipV="1">
            <a:off x="539640" y="4920840"/>
            <a:ext cx="273240" cy="484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186920" y="4921200"/>
            <a:ext cx="436680" cy="66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13080" y="3768840"/>
            <a:ext cx="163440" cy="847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127400" y="4590720"/>
            <a:ext cx="654120" cy="241560"/>
            <a:chOff x="4127400" y="4590720"/>
            <a:chExt cx="654120" cy="241560"/>
          </a:xfrm>
        </p:grpSpPr>
        <p:sp>
          <p:nvSpPr>
            <p:cNvPr id="164" name=""/>
            <p:cNvSpPr/>
            <p:nvPr/>
          </p:nvSpPr>
          <p:spPr>
            <a:xfrm>
              <a:off x="4127400" y="459108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7400" y="45910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454280" y="459072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822840" y="4971600"/>
            <a:ext cx="653760" cy="241920"/>
            <a:chOff x="3822840" y="4971600"/>
            <a:chExt cx="653760" cy="241920"/>
          </a:xfrm>
        </p:grpSpPr>
        <p:sp>
          <p:nvSpPr>
            <p:cNvPr id="168" name=""/>
            <p:cNvSpPr/>
            <p:nvPr/>
          </p:nvSpPr>
          <p:spPr>
            <a:xfrm>
              <a:off x="3822840" y="4971960"/>
              <a:ext cx="65376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22840" y="497196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149720" y="49716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572000" y="4992480"/>
            <a:ext cx="654120" cy="241560"/>
            <a:chOff x="4572000" y="4992480"/>
            <a:chExt cx="654120" cy="241560"/>
          </a:xfrm>
        </p:grpSpPr>
        <p:sp>
          <p:nvSpPr>
            <p:cNvPr id="172" name=""/>
            <p:cNvSpPr/>
            <p:nvPr/>
          </p:nvSpPr>
          <p:spPr>
            <a:xfrm>
              <a:off x="4572000" y="499284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0" y="49928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898880" y="49924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876920" y="4611240"/>
            <a:ext cx="653760" cy="241920"/>
            <a:chOff x="4876920" y="4611240"/>
            <a:chExt cx="653760" cy="241920"/>
          </a:xfrm>
        </p:grpSpPr>
        <p:sp>
          <p:nvSpPr>
            <p:cNvPr id="176" name=""/>
            <p:cNvSpPr/>
            <p:nvPr/>
          </p:nvSpPr>
          <p:spPr>
            <a:xfrm>
              <a:off x="4876920" y="4611600"/>
              <a:ext cx="65376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76920" y="46116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203800" y="46112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356000" y="5352840"/>
            <a:ext cx="654120" cy="241560"/>
            <a:chOff x="4356000" y="5352840"/>
            <a:chExt cx="654120" cy="241560"/>
          </a:xfrm>
        </p:grpSpPr>
        <p:sp>
          <p:nvSpPr>
            <p:cNvPr id="180" name=""/>
            <p:cNvSpPr/>
            <p:nvPr/>
          </p:nvSpPr>
          <p:spPr>
            <a:xfrm>
              <a:off x="4356000" y="535320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56000" y="53532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682880" y="53528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 flipV="1">
            <a:off x="4645080" y="3695400"/>
            <a:ext cx="163440" cy="847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116000" y="3768840"/>
            <a:ext cx="0" cy="495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29080" y="2760840"/>
            <a:ext cx="1133640" cy="119376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7080" y="3336840"/>
            <a:ext cx="934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71440" y="3048120"/>
            <a:ext cx="1818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ffec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0e"/>
                </a:solidFill>
                <a:latin typeface="Arial"/>
              </a:rPr>
              <a:t>Thorough due process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4272120"/>
            <a:ext cx="1235160" cy="668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445000"/>
            <a:ext cx="98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t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nd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2779560"/>
            <a:ext cx="1374840" cy="1152720"/>
          </a:xfrm>
          <a:prstGeom prst="flowChartPunchedTap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32000" y="2744640"/>
            <a:ext cx="1231920" cy="1224000"/>
          </a:xfrm>
          <a:prstGeom prst="flowChartPunchedTap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posur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80000" y="2708280"/>
            <a:ext cx="1306440" cy="1295280"/>
          </a:xfrm>
          <a:prstGeom prst="flowChartPunchedTap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3800" y="56404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8000" y="2760840"/>
            <a:ext cx="1133640" cy="119376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111400" y="4662000"/>
            <a:ext cx="654120" cy="241920"/>
            <a:chOff x="2111400" y="4662000"/>
            <a:chExt cx="654120" cy="241920"/>
          </a:xfrm>
        </p:grpSpPr>
        <p:sp>
          <p:nvSpPr>
            <p:cNvPr id="197" name=""/>
            <p:cNvSpPr/>
            <p:nvPr/>
          </p:nvSpPr>
          <p:spPr>
            <a:xfrm>
              <a:off x="2111400" y="4662360"/>
              <a:ext cx="65412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11400" y="466236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438280" y="46620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806480" y="5043240"/>
            <a:ext cx="654120" cy="241560"/>
            <a:chOff x="1806480" y="5043240"/>
            <a:chExt cx="654120" cy="241560"/>
          </a:xfrm>
        </p:grpSpPr>
        <p:sp>
          <p:nvSpPr>
            <p:cNvPr id="201" name=""/>
            <p:cNvSpPr/>
            <p:nvPr/>
          </p:nvSpPr>
          <p:spPr>
            <a:xfrm>
              <a:off x="1806480" y="504360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06480" y="50436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2133360" y="50432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611440" y="5084280"/>
            <a:ext cx="654120" cy="241920"/>
            <a:chOff x="2611440" y="5084280"/>
            <a:chExt cx="654120" cy="241920"/>
          </a:xfrm>
        </p:grpSpPr>
        <p:sp>
          <p:nvSpPr>
            <p:cNvPr id="205" name=""/>
            <p:cNvSpPr/>
            <p:nvPr/>
          </p:nvSpPr>
          <p:spPr>
            <a:xfrm>
              <a:off x="2611440" y="5084640"/>
              <a:ext cx="65412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11440" y="50846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938320" y="50842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916360" y="4703400"/>
            <a:ext cx="653760" cy="241560"/>
            <a:chOff x="2916360" y="4703400"/>
            <a:chExt cx="653760" cy="241560"/>
          </a:xfrm>
        </p:grpSpPr>
        <p:sp>
          <p:nvSpPr>
            <p:cNvPr id="209" name=""/>
            <p:cNvSpPr/>
            <p:nvPr/>
          </p:nvSpPr>
          <p:spPr>
            <a:xfrm>
              <a:off x="2916360" y="4703760"/>
              <a:ext cx="65376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360" y="470376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243240" y="47034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40000" y="5424120"/>
            <a:ext cx="654120" cy="241560"/>
            <a:chOff x="2340000" y="5424120"/>
            <a:chExt cx="654120" cy="241560"/>
          </a:xfrm>
        </p:grpSpPr>
        <p:sp>
          <p:nvSpPr>
            <p:cNvPr id="213" name=""/>
            <p:cNvSpPr/>
            <p:nvPr/>
          </p:nvSpPr>
          <p:spPr>
            <a:xfrm>
              <a:off x="2340000" y="542448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40000" y="54244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666880" y="542412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 flipV="1">
            <a:off x="539640" y="4920840"/>
            <a:ext cx="273240" cy="484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1186920" y="4921200"/>
            <a:ext cx="436680" cy="66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413080" y="3768840"/>
            <a:ext cx="163440" cy="847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127400" y="4590720"/>
            <a:ext cx="654120" cy="241560"/>
            <a:chOff x="4127400" y="4590720"/>
            <a:chExt cx="654120" cy="241560"/>
          </a:xfrm>
        </p:grpSpPr>
        <p:sp>
          <p:nvSpPr>
            <p:cNvPr id="220" name=""/>
            <p:cNvSpPr/>
            <p:nvPr/>
          </p:nvSpPr>
          <p:spPr>
            <a:xfrm>
              <a:off x="4127400" y="459108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27400" y="45910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454280" y="459072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822840" y="4971600"/>
            <a:ext cx="653760" cy="241920"/>
            <a:chOff x="3822840" y="4971600"/>
            <a:chExt cx="653760" cy="241920"/>
          </a:xfrm>
        </p:grpSpPr>
        <p:sp>
          <p:nvSpPr>
            <p:cNvPr id="224" name=""/>
            <p:cNvSpPr/>
            <p:nvPr/>
          </p:nvSpPr>
          <p:spPr>
            <a:xfrm>
              <a:off x="3822840" y="4971960"/>
              <a:ext cx="65376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22840" y="497196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149720" y="49716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572000" y="4992480"/>
            <a:ext cx="654120" cy="241560"/>
            <a:chOff x="4572000" y="4992480"/>
            <a:chExt cx="654120" cy="241560"/>
          </a:xfrm>
        </p:grpSpPr>
        <p:sp>
          <p:nvSpPr>
            <p:cNvPr id="228" name=""/>
            <p:cNvSpPr/>
            <p:nvPr/>
          </p:nvSpPr>
          <p:spPr>
            <a:xfrm>
              <a:off x="4572000" y="499284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0" y="49928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898880" y="49924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876920" y="4611240"/>
            <a:ext cx="653760" cy="241920"/>
            <a:chOff x="4876920" y="4611240"/>
            <a:chExt cx="653760" cy="241920"/>
          </a:xfrm>
        </p:grpSpPr>
        <p:sp>
          <p:nvSpPr>
            <p:cNvPr id="232" name=""/>
            <p:cNvSpPr/>
            <p:nvPr/>
          </p:nvSpPr>
          <p:spPr>
            <a:xfrm>
              <a:off x="4876920" y="4611600"/>
              <a:ext cx="65376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76920" y="46116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203800" y="46112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356000" y="5352840"/>
            <a:ext cx="654120" cy="241560"/>
            <a:chOff x="4356000" y="5352840"/>
            <a:chExt cx="654120" cy="241560"/>
          </a:xfrm>
        </p:grpSpPr>
        <p:sp>
          <p:nvSpPr>
            <p:cNvPr id="236" name=""/>
            <p:cNvSpPr/>
            <p:nvPr/>
          </p:nvSpPr>
          <p:spPr>
            <a:xfrm>
              <a:off x="4356000" y="535320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56000" y="53532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682880" y="53528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 flipV="1">
            <a:off x="4645080" y="3695400"/>
            <a:ext cx="163440" cy="847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116000" y="3768840"/>
            <a:ext cx="0" cy="495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29080" y="2760840"/>
            <a:ext cx="1133640" cy="119376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77080" y="3336840"/>
            <a:ext cx="934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71440" y="3048120"/>
            <a:ext cx="1818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ffec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0e"/>
                </a:solidFill>
                <a:latin typeface="Arial"/>
              </a:rPr>
              <a:t>What do we look for in </a:t>
            </a:r>
            <a:br>
              <a:rPr sz="4000"/>
            </a:br>
            <a:r>
              <a:rPr b="1" lang="en-US" sz="4000" spc="-1" strike="noStrike">
                <a:solidFill>
                  <a:srgbClr val="f2f20e"/>
                </a:solidFill>
                <a:latin typeface="Arial"/>
              </a:rPr>
              <a:t>comment letters?</a:t>
            </a:r>
            <a:endParaRPr b="1" lang="en-US" sz="40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d we miss something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gu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s the proposal improve decision-useful information?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the benefit in proportion with the cost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0e"/>
                </a:solidFill>
                <a:latin typeface="Arial"/>
              </a:rPr>
              <a:t>The Due Process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y will have to learn to listen to my view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es it mean to obey?     - or to listen, consider, form an opinion and decide?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0e"/>
                </a:solidFill>
                <a:latin typeface="Arial"/>
              </a:rPr>
              <a:t>Thorough due process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4272120"/>
            <a:ext cx="1235160" cy="668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5445000"/>
            <a:ext cx="98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t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nd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2779560"/>
            <a:ext cx="1374840" cy="1152720"/>
          </a:xfrm>
          <a:prstGeom prst="flowChartPunchedTap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32000" y="2744640"/>
            <a:ext cx="1231920" cy="1224000"/>
          </a:xfrm>
          <a:prstGeom prst="flowChartPunchedTap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os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80000" y="2708280"/>
            <a:ext cx="1306440" cy="1295280"/>
          </a:xfrm>
          <a:prstGeom prst="flowChartPunchedTap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33800" y="56404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8000" y="2760840"/>
            <a:ext cx="1133640" cy="119376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111400" y="4662000"/>
            <a:ext cx="654120" cy="241920"/>
            <a:chOff x="2111400" y="4662000"/>
            <a:chExt cx="654120" cy="241920"/>
          </a:xfrm>
        </p:grpSpPr>
        <p:sp>
          <p:nvSpPr>
            <p:cNvPr id="257" name=""/>
            <p:cNvSpPr/>
            <p:nvPr/>
          </p:nvSpPr>
          <p:spPr>
            <a:xfrm>
              <a:off x="2111400" y="4662360"/>
              <a:ext cx="65412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11400" y="466236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438280" y="46620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806480" y="5043240"/>
            <a:ext cx="654120" cy="241560"/>
            <a:chOff x="1806480" y="5043240"/>
            <a:chExt cx="654120" cy="241560"/>
          </a:xfrm>
        </p:grpSpPr>
        <p:sp>
          <p:nvSpPr>
            <p:cNvPr id="261" name=""/>
            <p:cNvSpPr/>
            <p:nvPr/>
          </p:nvSpPr>
          <p:spPr>
            <a:xfrm>
              <a:off x="1806480" y="504360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06480" y="50436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133360" y="50432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611440" y="5084280"/>
            <a:ext cx="654120" cy="241920"/>
            <a:chOff x="2611440" y="5084280"/>
            <a:chExt cx="654120" cy="241920"/>
          </a:xfrm>
        </p:grpSpPr>
        <p:sp>
          <p:nvSpPr>
            <p:cNvPr id="265" name=""/>
            <p:cNvSpPr/>
            <p:nvPr/>
          </p:nvSpPr>
          <p:spPr>
            <a:xfrm>
              <a:off x="2611440" y="5084640"/>
              <a:ext cx="65412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11440" y="50846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938320" y="50842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916360" y="4703400"/>
            <a:ext cx="653760" cy="241560"/>
            <a:chOff x="2916360" y="4703400"/>
            <a:chExt cx="653760" cy="241560"/>
          </a:xfrm>
        </p:grpSpPr>
        <p:sp>
          <p:nvSpPr>
            <p:cNvPr id="269" name=""/>
            <p:cNvSpPr/>
            <p:nvPr/>
          </p:nvSpPr>
          <p:spPr>
            <a:xfrm>
              <a:off x="2916360" y="4703760"/>
              <a:ext cx="65376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16360" y="470376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243240" y="47034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340000" y="5424120"/>
            <a:ext cx="654120" cy="241560"/>
            <a:chOff x="2340000" y="5424120"/>
            <a:chExt cx="654120" cy="241560"/>
          </a:xfrm>
        </p:grpSpPr>
        <p:sp>
          <p:nvSpPr>
            <p:cNvPr id="273" name=""/>
            <p:cNvSpPr/>
            <p:nvPr/>
          </p:nvSpPr>
          <p:spPr>
            <a:xfrm>
              <a:off x="2340000" y="542448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40000" y="54244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2666880" y="542412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 flipV="1">
            <a:off x="539640" y="4920840"/>
            <a:ext cx="273240" cy="484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1186920" y="4921200"/>
            <a:ext cx="436680" cy="66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413080" y="3768840"/>
            <a:ext cx="163440" cy="847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127400" y="4590720"/>
            <a:ext cx="654120" cy="241560"/>
            <a:chOff x="4127400" y="4590720"/>
            <a:chExt cx="654120" cy="241560"/>
          </a:xfrm>
        </p:grpSpPr>
        <p:sp>
          <p:nvSpPr>
            <p:cNvPr id="280" name=""/>
            <p:cNvSpPr/>
            <p:nvPr/>
          </p:nvSpPr>
          <p:spPr>
            <a:xfrm>
              <a:off x="4127400" y="459108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27400" y="45910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454280" y="459072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822840" y="4971600"/>
            <a:ext cx="653760" cy="241920"/>
            <a:chOff x="3822840" y="4971600"/>
            <a:chExt cx="653760" cy="241920"/>
          </a:xfrm>
        </p:grpSpPr>
        <p:sp>
          <p:nvSpPr>
            <p:cNvPr id="284" name=""/>
            <p:cNvSpPr/>
            <p:nvPr/>
          </p:nvSpPr>
          <p:spPr>
            <a:xfrm>
              <a:off x="3822840" y="4971960"/>
              <a:ext cx="65376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22840" y="497196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149720" y="49716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572000" y="4992480"/>
            <a:ext cx="654120" cy="241560"/>
            <a:chOff x="4572000" y="4992480"/>
            <a:chExt cx="654120" cy="241560"/>
          </a:xfrm>
        </p:grpSpPr>
        <p:sp>
          <p:nvSpPr>
            <p:cNvPr id="288" name=""/>
            <p:cNvSpPr/>
            <p:nvPr/>
          </p:nvSpPr>
          <p:spPr>
            <a:xfrm>
              <a:off x="4572000" y="499284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49928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898880" y="49924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876920" y="4611240"/>
            <a:ext cx="653760" cy="241920"/>
            <a:chOff x="4876920" y="4611240"/>
            <a:chExt cx="653760" cy="241920"/>
          </a:xfrm>
        </p:grpSpPr>
        <p:sp>
          <p:nvSpPr>
            <p:cNvPr id="292" name=""/>
            <p:cNvSpPr/>
            <p:nvPr/>
          </p:nvSpPr>
          <p:spPr>
            <a:xfrm>
              <a:off x="4876920" y="4611600"/>
              <a:ext cx="65376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76920" y="46116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203800" y="46112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356000" y="5352840"/>
            <a:ext cx="654120" cy="241560"/>
            <a:chOff x="4356000" y="5352840"/>
            <a:chExt cx="654120" cy="241560"/>
          </a:xfrm>
        </p:grpSpPr>
        <p:sp>
          <p:nvSpPr>
            <p:cNvPr id="296" name=""/>
            <p:cNvSpPr/>
            <p:nvPr/>
          </p:nvSpPr>
          <p:spPr>
            <a:xfrm>
              <a:off x="4356000" y="535320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56000" y="53532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4682880" y="53528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V="1">
            <a:off x="4645080" y="3695400"/>
            <a:ext cx="163440" cy="847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116000" y="3768840"/>
            <a:ext cx="0" cy="495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29080" y="2760840"/>
            <a:ext cx="1133640" cy="119376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3336840"/>
            <a:ext cx="934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71440" y="3048120"/>
            <a:ext cx="1818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ffec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f2f20e"/>
                </a:solidFill>
                <a:latin typeface="Arial"/>
              </a:rPr>
              <a:t>Principle-based standards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424160" y="4970520"/>
            <a:ext cx="2651040" cy="8222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5213520" y="4038480"/>
            <a:ext cx="2525400" cy="17305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5338800" y="2695680"/>
            <a:ext cx="2397240" cy="16430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753560" y="601992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0e"/>
                </a:solidFill>
                <a:latin typeface="Arial"/>
              </a:rPr>
              <a:t>Princi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6960" y="601992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0e"/>
                </a:solidFill>
                <a:latin typeface="Arial"/>
              </a:rPr>
              <a:t>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2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76920" y="2209680"/>
            <a:ext cx="3276360" cy="411480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648320" y="2286000"/>
            <a:ext cx="3504960" cy="411480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f2f20e"/>
                </a:solidFill>
                <a:latin typeface="Arial"/>
              </a:rPr>
              <a:t>Principle-based standards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w, if any, scope excep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w, if any, special prov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istency across the set of stand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lain reasoning for deviating from princip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Outline 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Vi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independ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verg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bil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e Process and Responsive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les versus R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agen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f2f20e"/>
                </a:solidFill>
                <a:latin typeface="Arial"/>
              </a:rPr>
              <a:t>Principle-based standards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ications fo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di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ula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Measurement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n roundtable discussions as part of the framework project to consider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re the available measurement attribute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nformation does each provid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should the IASB think about the choice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Measurement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ent Fair Value Measurement project – how, not when or whethe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anadian FVM discussion paper – part of the Framework pro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Convergence with FASB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1760" y="2276640"/>
            <a:ext cx="83818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OU agreed between IASB and FASB publicly supported by USA and Euro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iming to eliminate reconcili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rt to medium term projects with quick implemen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cts with a medium or long term view and requiring substantial 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The Active Agenda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01940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ual frame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enue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Statement Presen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combin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abil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uranc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r value measur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instru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33800" y="2286000"/>
            <a:ext cx="40212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n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olid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ll and Medium sized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ission rights tr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term convergence x 1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The Research Agenda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488952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cial instru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recogn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abilities and equ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tractive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angible ass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33800" y="2285640"/>
            <a:ext cx="40212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The Conceptual Framework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62120" y="2205000"/>
            <a:ext cx="8192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guidance for the board when setting standards and support for preparers when lack of applicable standa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 framework established 198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joint IASB – FASB long term proj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 ph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ussion paper published over the first ph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bjectives and Qualitative Characterist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0e"/>
                </a:solidFill>
                <a:latin typeface="Arial"/>
              </a:rPr>
              <a:t>Small and Medium sized Entities</a:t>
            </a:r>
            <a:endParaRPr b="1" lang="en-US" sz="40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81928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uch asked f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MEs = 95% of all compan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implification of the big bo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tand alone docu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cognition and measurement simplif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signed with a company of 50 employees in mi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ach jurisdiction decides who u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t for listed companies or financial institu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posure Draft to be published 200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50 pag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0e"/>
                </a:solidFill>
                <a:latin typeface="Arial"/>
              </a:rPr>
              <a:t>Global convergence</a:t>
            </a:r>
            <a:br>
              <a:rPr sz="4000"/>
            </a:br>
            <a:r>
              <a:rPr b="1" lang="en-US" sz="4000" spc="-1" strike="noStrike">
                <a:solidFill>
                  <a:srgbClr val="f2f20e"/>
                </a:solidFill>
                <a:latin typeface="Arial"/>
              </a:rPr>
              <a:t>- a value creating activity</a:t>
            </a:r>
            <a:endParaRPr b="1" lang="en-US" sz="40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 quality common standard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ter understan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wer expen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Better invest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8351640" cy="403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2f20e"/>
                </a:solidFill>
                <a:latin typeface="Arial"/>
              </a:rPr>
              <a:t>The World is getting smaller</a:t>
            </a:r>
            <a:endParaRPr b="1" lang="en-US" sz="40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5346720"/>
            <a:ext cx="2520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03640" y="5942160"/>
            <a:ext cx="2448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Arial Black"/>
              </a:rPr>
              <a:t>RED = IFRS Appro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9933"/>
                </a:solidFill>
                <a:latin typeface="Arial Black"/>
              </a:rPr>
              <a:t>ORANGE = Stated move to adop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2f20e"/>
                </a:solidFill>
                <a:latin typeface="Arial Black"/>
              </a:rPr>
              <a:t>YELLOW = Adapting to IFRS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59280" y="22050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 Black"/>
              </a:rPr>
              <a:t>IFRSs Around the Worl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The Vision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one single set of hig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quality global standards.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..used on the global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pital market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The Vision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one single set of hig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quality global standards.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..used on the global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pital market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2f20e"/>
                </a:solidFill>
                <a:latin typeface="Arial"/>
              </a:rPr>
              <a:t>Get more information at:</a:t>
            </a:r>
            <a:r>
              <a:rPr b="1" lang="en-GB" sz="4000" spc="-1" strike="noStrike">
                <a:solidFill>
                  <a:srgbClr val="f2f20e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2f20e"/>
                </a:solidFill>
                <a:latin typeface="Arial"/>
              </a:rPr>
              <a:t>www.iasb.org</a:t>
            </a:r>
            <a:endParaRPr b="1" lang="en-US" sz="4000" spc="-1" strike="noStrike">
              <a:solidFill>
                <a:srgbClr val="f2f20e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4087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The Critics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4437000"/>
            <a:ext cx="2667240" cy="921240"/>
          </a:xfrm>
          <a:prstGeom prst="wedgeRoundRectCallout">
            <a:avLst>
              <a:gd name="adj1" fmla="val -43523"/>
              <a:gd name="adj2" fmla="val 74097"/>
              <a:gd name="adj3" fmla="val 16667"/>
            </a:avLst>
          </a:prstGeom>
          <a:noFill/>
          <a:ln w="28440">
            <a:solidFill>
              <a:srgbClr val="f2f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eatening stability of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284560"/>
            <a:ext cx="2895480" cy="921240"/>
          </a:xfrm>
          <a:prstGeom prst="wedgeRoundRectCallout">
            <a:avLst>
              <a:gd name="adj1" fmla="val -43523"/>
              <a:gd name="adj2" fmla="val 74023"/>
              <a:gd name="adj3" fmla="val 16667"/>
            </a:avLst>
          </a:prstGeom>
          <a:noFill/>
          <a:ln w="28440">
            <a:solidFill>
              <a:srgbClr val="f2f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ir value fix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5187600"/>
            <a:ext cx="2739960" cy="921240"/>
          </a:xfrm>
          <a:prstGeom prst="wedgeRoundRectCallout">
            <a:avLst>
              <a:gd name="adj1" fmla="val -43537"/>
              <a:gd name="adj2" fmla="val 72421"/>
              <a:gd name="adj3" fmla="val 16667"/>
            </a:avLst>
          </a:prstGeom>
          <a:noFill/>
          <a:ln w="28440">
            <a:solidFill>
              <a:srgbClr val="f2f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o theore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3200400"/>
            <a:ext cx="2630520" cy="1957320"/>
          </a:xfrm>
          <a:prstGeom prst="wedgeRoundRectCallout">
            <a:avLst>
              <a:gd name="adj1" fmla="val -51449"/>
              <a:gd name="adj2" fmla="val 80087"/>
              <a:gd name="adj3" fmla="val 16667"/>
            </a:avLst>
          </a:prstGeom>
          <a:noFill/>
          <a:ln w="28440">
            <a:solidFill>
              <a:srgbClr val="f2f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understand our region’s situation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2079720"/>
            <a:ext cx="2666880" cy="460800"/>
          </a:xfrm>
          <a:prstGeom prst="wedgeRoundRectCallout">
            <a:avLst>
              <a:gd name="adj1" fmla="val -37384"/>
              <a:gd name="adj2" fmla="val 153120"/>
              <a:gd name="adj3" fmla="val 16667"/>
            </a:avLst>
          </a:prstGeom>
          <a:noFill/>
          <a:ln w="28440">
            <a:solidFill>
              <a:srgbClr val="f2f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 domin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581280"/>
            <a:ext cx="2286000" cy="921240"/>
          </a:xfrm>
          <a:prstGeom prst="wedgeRoundRectCallout">
            <a:avLst>
              <a:gd name="adj1" fmla="val -46694"/>
              <a:gd name="adj2" fmla="val 73125"/>
              <a:gd name="adj3" fmla="val 16667"/>
            </a:avLst>
          </a:prstGeom>
          <a:noFill/>
          <a:ln w="28440">
            <a:solidFill>
              <a:srgbClr val="f2f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list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2f20e"/>
                </a:solidFill>
                <a:latin typeface="Arial"/>
              </a:rPr>
              <a:t>News 2005 / 2006</a:t>
            </a:r>
            <a:endParaRPr b="1" lang="en-US" sz="36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mation of a Trustee Advisory Group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w and more Trust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vised constit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ue process Handbook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anges within the Board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w and more staff on bo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f2f20e"/>
                </a:solidFill>
                <a:latin typeface="Arial"/>
              </a:rPr>
              <a:t>Independent standard setting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ependent board memb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board meetings in publ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et simulca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orough due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d oversigh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vate fund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2680" y="44136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IASB’s structure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9051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59320" y="2117880"/>
            <a:ext cx="2057400" cy="571320"/>
          </a:xfrm>
          <a:prstGeom prst="rect">
            <a:avLst/>
          </a:prstGeom>
          <a:solidFill>
            <a:srgbClr val="3333cc"/>
          </a:solidFill>
          <a:ln w="9360">
            <a:solidFill>
              <a:srgbClr val="f2f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 Trust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3565440"/>
            <a:ext cx="138744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f2f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vis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360" y="3357720"/>
            <a:ext cx="237492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f2f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4 board memb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5 technical staf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97520" y="3718080"/>
            <a:ext cx="14860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f2f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R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5229360"/>
            <a:ext cx="6551640" cy="792000"/>
          </a:xfrm>
          <a:prstGeom prst="rect">
            <a:avLst/>
          </a:prstGeom>
          <a:solidFill>
            <a:srgbClr val="3333cc"/>
          </a:solidFill>
          <a:ln w="9360">
            <a:solidFill>
              <a:srgbClr val="f2f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Standard Set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40360" y="4005360"/>
            <a:ext cx="647640" cy="0"/>
          </a:xfrm>
          <a:prstGeom prst="line">
            <a:avLst/>
          </a:prstGeom>
          <a:ln w="9360">
            <a:solidFill>
              <a:srgbClr val="f2f20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682720" y="3933720"/>
            <a:ext cx="736920" cy="12960"/>
          </a:xfrm>
          <a:prstGeom prst="line">
            <a:avLst/>
          </a:prstGeom>
          <a:ln w="9360">
            <a:solidFill>
              <a:srgbClr val="f2f20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7082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IASB 2001 – 2006</a:t>
            </a:r>
            <a:br>
              <a:rPr sz="4400"/>
            </a:br>
            <a:r>
              <a:rPr b="1" lang="en-US" sz="4000" spc="-1" strike="noStrike">
                <a:solidFill>
                  <a:srgbClr val="f2f20e"/>
                </a:solidFill>
                <a:latin typeface="Arial"/>
              </a:rPr>
              <a:t>- five years of progress</a:t>
            </a:r>
            <a:endParaRPr b="1" lang="en-US" sz="40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FRS established as the role model for financial reporting for listed compan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 substantial up-grade of standards completed 2004  :  the Stable Platfor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obal convergence is now in true prog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 2" charset="2"/>
              <a:buChar char="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orkplan agreed US and Euro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 2" charset="2"/>
              <a:buChar char="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apan and China moving towards IF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Convergence !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tracting investment by transparenc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s cross-border invest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ing cost of capita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ing operational expen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, China, Japan, oth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12:49:22Z</dcterms:created>
  <dc:creator>katherine maybin</dc:creator>
  <dc:description/>
  <dc:language>en-US</dc:language>
  <cp:lastModifiedBy>cristina stacchini</cp:lastModifiedBy>
  <dcterms:modified xsi:type="dcterms:W3CDTF">2006-10-03T14:22:16Z</dcterms:modified>
  <cp:revision>203</cp:revision>
  <dc:subject/>
  <dc:title>PowerPoint Presentation</dc:title>
</cp:coreProperties>
</file>